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11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0E0-1C2A-4255-B515-AEA622AF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14B-4700-46D8-983E-5ED2677B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609-295A-4ACD-A260-7314FC77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BF0-B616-4F33-8F40-9AD7E424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5DC-204A-4AF9-AF16-DC9A0F3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3BB-01A6-4300-B8B2-A17E31AE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B8E-1142-4448-AB6A-D6F9D56D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6BD-2107-4F1F-8320-72522A49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16B-1EC7-43E7-B655-F815EEB7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74F-BF43-448B-BB40-1E7CF920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840-1DEE-4177-A6FF-8C8608C4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17F-875F-490E-B87F-B42C9D93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a020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59800" y="6598800"/>
            <a:ext cx="20635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33FC-5E8B-4FC2-B5D7-F4AC06146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image" Target="../media/image8.pct"/><Relationship Id="rId9" Type="http://schemas.openxmlformats.org/officeDocument/2006/relationships/image" Target="../media/image9.pct"/><Relationship Id="rId10" Type="http://schemas.openxmlformats.org/officeDocument/2006/relationships/image" Target="../media/image10.pct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080" y="75960"/>
            <a:ext cx="9658440" cy="96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atural </a:t>
            </a:r>
            <a:r>
              <a:rPr b="1" lang="en-GB" sz="3400" spc="-1" strike="noStrike">
                <a:solidFill>
                  <a:srgbClr val="0000ff"/>
                </a:solidFill>
                <a:latin typeface="Arial"/>
              </a:rPr>
              <a:t>(blue)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vs. model generated </a:t>
            </a:r>
            <a:r>
              <a:rPr b="1" lang="en-GB" sz="3400" spc="-1" strike="noStrike">
                <a:solidFill>
                  <a:srgbClr val="ca0202"/>
                </a:solidFill>
                <a:latin typeface="Arial"/>
              </a:rPr>
              <a:t>(red)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F0 for Mandarin</a:t>
            </a:r>
            <a:endParaRPr b="1" lang="en-US" sz="3400" spc="-1" strike="noStrike">
              <a:solidFill>
                <a:srgbClr val="ca0202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87240"/>
            <a:ext cx="3525840" cy="1598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352584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3735360"/>
            <a:ext cx="3525840" cy="1598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5259240"/>
            <a:ext cx="3525840" cy="1598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rcRect l="78319" t="0" r="0" b="0"/>
          <a:stretch/>
        </p:blipFill>
        <p:spPr>
          <a:xfrm>
            <a:off x="3467160" y="685800"/>
            <a:ext cx="3209760" cy="1604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rcRect l="78319" t="0" r="0" b="0"/>
          <a:stretch/>
        </p:blipFill>
        <p:spPr>
          <a:xfrm>
            <a:off x="3467160" y="2209680"/>
            <a:ext cx="3209760" cy="1606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rcRect l="78319" t="0" r="0" b="0"/>
          <a:stretch/>
        </p:blipFill>
        <p:spPr>
          <a:xfrm>
            <a:off x="3467160" y="3728880"/>
            <a:ext cx="3209760" cy="1605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rcRect l="78319" t="0" r="0" b="0"/>
          <a:stretch/>
        </p:blipFill>
        <p:spPr>
          <a:xfrm>
            <a:off x="3467160" y="5253120"/>
            <a:ext cx="3209760" cy="160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rcRect l="80763" t="0" r="0" b="0"/>
          <a:stretch/>
        </p:blipFill>
        <p:spPr>
          <a:xfrm>
            <a:off x="6797520" y="3687840"/>
            <a:ext cx="3108600" cy="164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18480" y="2467080"/>
            <a:ext cx="282240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F0 of 5 repetitions by 1 spe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1084320" y="1371600"/>
            <a:ext cx="245880" cy="24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744560" y="137160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1084320" y="2895480"/>
            <a:ext cx="245880" cy="246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1744560" y="289548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1084320" y="4495680"/>
            <a:ext cx="245880" cy="24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1744560" y="449568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1084320" y="6019920"/>
            <a:ext cx="245880" cy="245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1744560" y="6019920"/>
            <a:ext cx="246240" cy="24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5459400" y="243828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6119640" y="243828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5459400" y="3962520"/>
            <a:ext cx="246240" cy="24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6119640" y="3962520"/>
            <a:ext cx="246240" cy="245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4221000" y="600228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4881600" y="6002280"/>
            <a:ext cx="245880" cy="246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5511960" y="914400"/>
            <a:ext cx="245880" cy="246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6172200" y="91440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1F3-CDE7-4B2C-A250-B79611161510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4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09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09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10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10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0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10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07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07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4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04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046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04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8T02:52:19Z</dcterms:created>
  <dc:creator>Yi Xu</dc:creator>
  <dc:description/>
  <dc:language>en-US</dc:language>
  <cp:lastModifiedBy>Yi Xu</cp:lastModifiedBy>
  <cp:lastPrinted>2004-06-24T19:04:49Z</cp:lastPrinted>
  <dcterms:modified xsi:type="dcterms:W3CDTF">2006-03-17T07:45:42Z</dcterms:modified>
  <cp:revision>2234</cp:revision>
  <dc:subject/>
  <dc:title>PowerPoint Presentation  -  Tonal variations in Mandarin  &amp; how they relate to  intonation issues</dc:title>
</cp:coreProperties>
</file>