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11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E83-826B-48D2-9F45-CD9AF258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478-6BC6-4108-823A-0CF4C5FF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5BC-7CAC-4092-9408-D9587E7F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272-7E59-49A7-BEA0-EF25BE79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220-41B7-4D0E-9C90-AE8029F5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935-3305-4E98-B30A-1B0F2EC9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860-F38E-4E51-A809-66336B0F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2F6-A437-4CD7-B112-9A6988D2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06D-46FE-415F-8DD4-A16F9A92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D68-F5D3-416A-AE78-7B836D0B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AC1-E702-4D18-912A-7AF796CA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444-D569-494C-A1C4-057FCB9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a020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a020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59800" y="6598800"/>
            <a:ext cx="20635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91DB-94DE-4C1D-8CAB-BAABD177A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image" Target="../media/image8.pct"/><Relationship Id="rId9" Type="http://schemas.openxmlformats.org/officeDocument/2006/relationships/image" Target="../media/image9.pct"/><Relationship Id="rId10" Type="http://schemas.openxmlformats.org/officeDocument/2006/relationships/image" Target="../media/image10.pct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080" y="75960"/>
            <a:ext cx="9658440" cy="96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Natural </a:t>
            </a:r>
            <a:r>
              <a:rPr b="1" lang="en-GB" sz="3400" spc="-1" strike="noStrike">
                <a:solidFill>
                  <a:srgbClr val="0000ff"/>
                </a:solidFill>
                <a:latin typeface="Arial"/>
              </a:rPr>
              <a:t>(blue)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vs. model generated </a:t>
            </a:r>
            <a:r>
              <a:rPr b="1" lang="en-GB" sz="3400" spc="-1" strike="noStrike">
                <a:solidFill>
                  <a:srgbClr val="ca0202"/>
                </a:solidFill>
                <a:latin typeface="Arial"/>
              </a:rPr>
              <a:t>(red)</a:t>
            </a: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 F0 for Mandarin</a:t>
            </a:r>
            <a:endParaRPr b="1" lang="en-US" sz="3400" spc="-1" strike="noStrike">
              <a:solidFill>
                <a:srgbClr val="ca0202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87240"/>
            <a:ext cx="3525840" cy="1598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352584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3735360"/>
            <a:ext cx="3525840" cy="1598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0" y="5259240"/>
            <a:ext cx="3525840" cy="1598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rcRect l="78319" t="0" r="0" b="0"/>
          <a:stretch/>
        </p:blipFill>
        <p:spPr>
          <a:xfrm>
            <a:off x="3467160" y="685800"/>
            <a:ext cx="3209760" cy="1604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rcRect l="78319" t="0" r="0" b="0"/>
          <a:stretch/>
        </p:blipFill>
        <p:spPr>
          <a:xfrm>
            <a:off x="3467160" y="2209680"/>
            <a:ext cx="3209760" cy="1606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rcRect l="78319" t="0" r="0" b="0"/>
          <a:stretch/>
        </p:blipFill>
        <p:spPr>
          <a:xfrm>
            <a:off x="3467160" y="3728880"/>
            <a:ext cx="3209760" cy="1605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rcRect l="78319" t="0" r="0" b="0"/>
          <a:stretch/>
        </p:blipFill>
        <p:spPr>
          <a:xfrm>
            <a:off x="3467160" y="5253120"/>
            <a:ext cx="3209760" cy="1604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rcRect l="80763" t="0" r="0" b="0"/>
          <a:stretch/>
        </p:blipFill>
        <p:spPr>
          <a:xfrm>
            <a:off x="6797520" y="3687840"/>
            <a:ext cx="3108600" cy="164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18480" y="2467080"/>
            <a:ext cx="282240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F0 of 5 repetitions by 1 spea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1084320" y="1371600"/>
            <a:ext cx="245880" cy="246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1744560" y="1371600"/>
            <a:ext cx="246240" cy="246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1084320" y="2895480"/>
            <a:ext cx="245880" cy="246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1744560" y="2895480"/>
            <a:ext cx="246240" cy="246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1084320" y="4495680"/>
            <a:ext cx="245880" cy="246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1744560" y="4495680"/>
            <a:ext cx="246240" cy="24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1084320" y="6019920"/>
            <a:ext cx="245880" cy="245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1744560" y="6019920"/>
            <a:ext cx="246240" cy="245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5459400" y="2438280"/>
            <a:ext cx="246240" cy="246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6119640" y="2438280"/>
            <a:ext cx="246240" cy="24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5459400" y="3962520"/>
            <a:ext cx="246240" cy="245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6119640" y="3962520"/>
            <a:ext cx="246240" cy="245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4221000" y="6002280"/>
            <a:ext cx="246240" cy="246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4"/>
          <a:stretch/>
        </p:blipFill>
        <p:spPr>
          <a:xfrm>
            <a:off x="4881600" y="6002280"/>
            <a:ext cx="245880" cy="246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5"/>
          <a:stretch/>
        </p:blipFill>
        <p:spPr>
          <a:xfrm>
            <a:off x="5511960" y="914400"/>
            <a:ext cx="245880" cy="246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6"/>
          <a:stretch/>
        </p:blipFill>
        <p:spPr>
          <a:xfrm>
            <a:off x="6172200" y="91440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4BB-35A2-4873-9FBB-D19D1EE3B007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4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09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09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107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10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0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10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07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07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04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04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046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04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8T02:52:19Z</dcterms:created>
  <dc:creator>Yi Xu</dc:creator>
  <dc:description/>
  <dc:language>en-US</dc:language>
  <cp:lastModifiedBy>Yi Xu</cp:lastModifiedBy>
  <cp:lastPrinted>2004-06-24T19:04:49Z</cp:lastPrinted>
  <dcterms:modified xsi:type="dcterms:W3CDTF">2006-03-17T07:45:42Z</dcterms:modified>
  <cp:revision>2234</cp:revision>
  <dc:subject/>
  <dc:title>PowerPoint Presentation  -  Tonal variations in Mandarin  &amp; how they relate to  intonation issues</dc:title>
</cp:coreProperties>
</file>