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42519-1B21-48B9-A685-28FAF77C6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CA238-0D90-44C6-9995-30750C02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A7036-DC8B-4343-9E37-817B6B826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D3A53-D794-439A-B4A9-852FC79E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5D0A9-AC34-4E4F-8AB7-A8894EE62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D9957-6FCB-4C6A-AAF6-E72E89F42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3C6D7-82BD-4D00-B818-2C99F9DFA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F66EF-8413-4FF2-995F-0C89658DA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2B40-9F95-45B1-97A9-F1C7007E4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2E0BD-265B-458D-AFE3-5BEAB4D30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5D762-D9F9-4704-96F2-300560486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7AF1-E10B-48F3-BAFC-3147F321C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5FD5-5EA5-4BF5-8FBF-AD1C7136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21D76-4C0E-4350-A521-541FE8433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47765-D505-455E-8AAA-506BCF340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175F7-3F3F-4C87-841F-26878B3A1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04846-24F0-4F95-9972-D6826745A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28BC-272D-4D08-A742-C983294D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CC486-6F42-4E5D-9B0D-FD773745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32AF-E38E-4DEE-A93E-039E5E28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7CF4-71FF-45CC-BB1B-E1F303293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F901-0AE5-4943-80FF-AEDBD08B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E965-51EE-4D0B-8935-44B33946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6417-FCCC-4555-8EAD-4DB8E40D2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2280" y="1752480"/>
            <a:ext cx="4724640" cy="15264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5800" y="6629400"/>
            <a:ext cx="3505320" cy="227160"/>
          </a:xfrm>
          <a:prstGeom prst="rect">
            <a:avLst/>
          </a:prstGeom>
          <a:gradFill rotWithShape="0">
            <a:gsLst>
              <a:gs pos="0">
                <a:srgbClr val="454545"/>
              </a:gs>
              <a:gs pos="50000">
                <a:srgbClr val="969696"/>
              </a:gs>
              <a:gs pos="100000">
                <a:srgbClr val="4545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62120" y="762120"/>
            <a:ext cx="8380440" cy="76176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9d9d9d"/>
              </a:gs>
              <a:gs pos="5000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85800" y="2438280"/>
            <a:ext cx="8456760" cy="76212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Edit²</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vin Brucker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Equipment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I Support allows data manipulation to occur when a user modifies a piece of data. This feature also allows for new windows of information for add-on data which is not stored in the primary windo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talk</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Ctalk plug-in was created to support immediate load of PH data and synthesize a phoneme combination for the rest of the PGI plug-ins</a:t>
            </a:r>
            <a:endParaRPr b="1" lang="en-US" sz="2800" spc="-1" strike="noStrike">
              <a:solidFill>
                <a:srgbClr val="000000"/>
              </a:solidFill>
              <a:latin typeface="Arial"/>
            </a:endParaRPr>
          </a:p>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er</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layer is required to hear the phonemes being produced from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scilloscope is available to look at actual data as raw wave format</a:t>
            </a:r>
            <a:endParaRPr b="1" lang="en-US" sz="28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trogram</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pectrogram window is available for the PGI interface which displays a spectral analysis of the three-phoneme combination produced by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Slid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ata Plug-in which adjusts target time information when the duration of a phoneme changes based on a percentile engi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tarteam project was created as a temporary repository for PHEdit², awaiting the creation of a fully functional tools repository for related tools which need the backup and version control reliability provided by starteam, without being checked into the primary code po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78000"/>
          </a:bodyPr>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19th, 1997: PHEdit² went to Alpha Release 5</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7th, 1998: PHEdit² entered Beta Cycle 1</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24th, 1998: PHEdit² will enter Beta Cycle 2</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31st, 1998: PHEdit² will be completed, and version 2.0 review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a 1 contains all known bug fixes and appears to be stabl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Alpha Release 5 sixteen days ahead of schedu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Beta Cycle 1 three days ahead of schedu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Features in Beta 1</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on of first PDI (TarSlide) and all known bugs fixed in all plug-ins</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pecification 1.1 Supported</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Interface v1.0 Support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Presentat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comments, sugges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Goal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 the task of creating new languages and enhancing the quality of existing languages phonetic information</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system which is compatible to existing hardware and software products with minimal DECtalk™ design level chang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32004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ool allows organized display and modification of phonetic data used by the PH engine which otherwise is painful and time-consuming to modify.</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on of full PHRom files via a proprietary file format and a gender combining compil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ous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 versions required extensive changes to DECtalk and were not portable to the hardware platfor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footprint of old PH file formats were significantly larger and less expanda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R file format specification and suppor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edit ability of all fields of current PHRom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fields for future support and cleaner code</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R: Gender Independent Ro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Language-dependent PGI and PDI selecto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lug-ins supporting data entry and manipulation, as well as the new GAI format for accelerated language development</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Graphical Acquisition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D file format</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PHD file format is based on the RIFF standard, and has support for backwards compatibility, encryption, and comment support, as well as possible support for undo and data revision control</a:t>
            </a:r>
            <a:endParaRPr b="1"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FF: Resource Interchange File Form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ystem Support</a:t>
            </a:r>
            <a:endParaRPr b="1"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supports both PGI plug-ins, and PDI plug-ins. Both plug-in systems have the ability to act as a filter, although PGI filters must register themselves as filter level plug-ins to manipulate the data being passed</a:t>
            </a:r>
            <a:endParaRPr b="1"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Plug-in Graphical Interface</a:t>
            </a:r>
            <a:endParaRPr b="1"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Plug-in Data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GI interface allows graphical interpretations of the data used in the editor in conjunction with a special DECtalk module known as KLSYN.PGI. This module has core components of DECtalk to allow for PH data to be replaced by the editor, and tested in real-tim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30T15:37:05Z</dcterms:created>
  <dc:creator>Kevin Bruckert</dc:creator>
  <dc:description/>
  <dc:language>en-US</dc:language>
  <cp:lastModifiedBy>Kevin Bruckert</cp:lastModifiedBy>
  <cp:lastPrinted>1997-12-30T16:31:44Z</cp:lastPrinted>
  <dcterms:modified xsi:type="dcterms:W3CDTF">1998-01-07T19:27:21Z</dcterms:modified>
  <cp:revision>12</cp:revision>
  <dc:subject/>
  <dc:title>PHEdit²</dc:title>
</cp:coreProperties>
</file>