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253040" y="258840"/>
            <a:ext cx="477036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0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DECtalk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70160" y="2620800"/>
            <a:ext cx="477036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0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DECtalk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136440" y="4983120"/>
            <a:ext cx="477036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0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DECtalk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7908840" y="6446880"/>
            <a:ext cx="1060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.L. 06/01/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76320"/>
            <a:ext cx="8991720" cy="67057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4327560" y="6427800"/>
            <a:ext cx="450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0393ED68-0627-45ED-BE27-50AF49BEDC6F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2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3.png"/><Relationship Id="rId13" Type="http://schemas.openxmlformats.org/officeDocument/2006/relationships/image" Target="../media/image1.png"/><Relationship Id="rId14" Type="http://schemas.openxmlformats.org/officeDocument/2006/relationships/image" Target="../media/image4.png"/><Relationship Id="rId15" Type="http://schemas.openxmlformats.org/officeDocument/2006/relationships/image" Target="../media/image3.png"/><Relationship Id="rId16" Type="http://schemas.openxmlformats.org/officeDocument/2006/relationships/image" Target="../media/image1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1.png"/><Relationship Id="rId20" Type="http://schemas.openxmlformats.org/officeDocument/2006/relationships/image" Target="../media/image3.png"/><Relationship Id="rId21" Type="http://schemas.openxmlformats.org/officeDocument/2006/relationships/image" Target="../media/image5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4.png"/><Relationship Id="rId3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1.png"/><Relationship Id="rId15" Type="http://schemas.openxmlformats.org/officeDocument/2006/relationships/image" Target="../media/image4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144792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talk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ic Regression Test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Ttester V1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71600" y="4114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Equipment 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nger C. Lin/Carl Leeber/Mike Garu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/1/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41360" y="136440"/>
            <a:ext cx="3146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ster Input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41360" y="684360"/>
            <a:ext cx="856440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command and arguments :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element for DTtest test sequen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entered as DOS command or included in the test cas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quest: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RUN command along with test text string or test text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text string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ASCII text string used as test input(arg_1) for DTtest RUN comm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text file :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s reside i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tx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y with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tx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name exten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regular ASCII text files used as Dectalk input fi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case file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s reside i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ts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y with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ts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name exten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file should have one or more DTtest test request.  Each DTtest request will 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ed a test number starting from test number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: One DTtest test request per 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_1(test input) of test request must be “text string” or  “test text fil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_4(output file name) of every test request will be ignored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test request per file -- 9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eading “;” for comment 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group file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s reside i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grp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y with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grp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name exten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file should have one more DTtest command with test case file name or 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group file n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: One DTtest command/file name per 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DTtest command per file -- 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eading “;” for comment 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41360" y="136440"/>
            <a:ext cx="4603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ster Input Structure(Example: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0440" y="987480"/>
            <a:ext cx="8223120" cy="3556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group file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92120" y="1825560"/>
            <a:ext cx="4229280" cy="3556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group fil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64120" y="1825560"/>
            <a:ext cx="2324160" cy="3556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group file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15800" y="3578400"/>
            <a:ext cx="2705040" cy="3556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case fil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454640" y="3578400"/>
            <a:ext cx="3314880" cy="3556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case file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016000" y="2739960"/>
            <a:ext cx="2705040" cy="3556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case file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664320" y="2739960"/>
            <a:ext cx="1943280" cy="35568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case file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97440" y="4568760"/>
            <a:ext cx="1390680" cy="35568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quest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673600" y="4568760"/>
            <a:ext cx="1390680" cy="35568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quest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320920" y="4568760"/>
            <a:ext cx="1380960" cy="35568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quest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92120" y="4568760"/>
            <a:ext cx="1390680" cy="35568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quest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273800" y="4568760"/>
            <a:ext cx="1380960" cy="35568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quest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92120" y="5559480"/>
            <a:ext cx="1380960" cy="35568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255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text st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454640" y="5559480"/>
            <a:ext cx="2019240" cy="35568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25560">
            <a:solidFill>
              <a:srgbClr val="ef91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text file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397240" y="5559480"/>
            <a:ext cx="1409760" cy="35568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25560">
            <a:solidFill>
              <a:srgbClr val="ef91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text fil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273800" y="5559480"/>
            <a:ext cx="1409760" cy="35568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25560">
            <a:solidFill>
              <a:srgbClr val="ef91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text file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4952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76920" y="4952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4952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4952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924680" y="4952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962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3962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3962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3962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67480" y="3962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52680" y="2133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21337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1295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12952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1295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001000" y="12952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31240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31240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21337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4674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81880" y="31240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41360" y="136440"/>
            <a:ext cx="3367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ster Output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41360" y="684360"/>
            <a:ext cx="86425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sult file :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s reside i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re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y with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re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name exten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sult file is associated to the test group file, test case file or output file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 DTtest command line depended on the way to initiate the tes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4 difference test status for each test ca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     -- test case pas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     -- test case fail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    -- new test case. can’t find test benchmark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 -- test case incomple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log file :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s reside i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lo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y with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lo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name exten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data log file for each test case file. The file name will be same as the test case file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command arg_1 if there is no output file name in arg_4.  If there is output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specified in arg_4 then use it as the log file n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diff file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s reside i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dif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y with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dif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name exten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fference file between test log file and test benchmark file for each test c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benchmark file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s reside i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bmk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y with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bmk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name exten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pected test result file for each test c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41360" y="136440"/>
            <a:ext cx="3537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ster Initiatio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41360" y="608040"/>
            <a:ext cx="862632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A -- test text str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“this is a test” “run” “0001” “test123” “ON” “ON” “” “” “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create test123.res,  test123.log and look for test123.bmk to create test123.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B -- test text f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“test123.txt” “run” “0001” “test1” “ON” “ON” “” “” “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read input text file test123.txt, then create test1.res,  test1.log and look for test1.bmk to cre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1.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C -- test case f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“test456.tst” “run” “0011” “” “OFF” “OFF” “” “” “” /la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read input test case file test456.tst, then create test456.res,  test456.log and look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456.bmk to create test456.dif. Only allow DTtest command with the format of  Case A and B with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456.tst.  The arg_4 of each DTtest command will be ignored.  The arg_3 to arg_7 will overr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ever in each DTtest command line inside test456.tst.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label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be used for the destination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TOx_p 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D --  test group f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“test789.grp” “run” “0111” “” “ON” “ON” “” “” “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read input test group file test789.grp, then create test789.res. Only allow DTtest command with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 of Case C or Case D within test789.grp. It will create a set of .log .dif files for each test cas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Case C.  The arg_3 to arg_7 of this command will override whatever inside test789.gr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41360" y="136440"/>
            <a:ext cx="309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 structur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68440" y="2435400"/>
            <a:ext cx="1866960" cy="10555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Group *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Case *test_case_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68440" y="3807000"/>
            <a:ext cx="2324160" cy="12384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Case *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Group  *test_group_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 *test_request_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68440" y="5407200"/>
            <a:ext cx="1638360" cy="87300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 *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68440" y="835200"/>
            <a:ext cx="2324160" cy="123840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25560">
            <a:solidFill>
              <a:srgbClr val="ef91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Group *test_group_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Case *test_case_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 *test_request_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140440" y="987480"/>
            <a:ext cx="1181160" cy="32544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140440" y="1749600"/>
            <a:ext cx="952560" cy="32544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83040" y="1749600"/>
            <a:ext cx="1257480" cy="32544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25560">
            <a:solidFill>
              <a:srgbClr val="ef91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83040" y="987480"/>
            <a:ext cx="1257480" cy="32544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25560">
            <a:solidFill>
              <a:srgbClr val="ef91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30600" y="2359080"/>
            <a:ext cx="1181160" cy="32544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578720" y="2359080"/>
            <a:ext cx="1181160" cy="32544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054840" y="2359080"/>
            <a:ext cx="1181160" cy="32544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1447920"/>
            <a:ext cx="5943600" cy="0"/>
          </a:xfrm>
          <a:prstGeom prst="line">
            <a:avLst/>
          </a:prstGeom>
          <a:ln w="2556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819520"/>
            <a:ext cx="5943600" cy="0"/>
          </a:xfrm>
          <a:prstGeom prst="line">
            <a:avLst/>
          </a:prstGeom>
          <a:ln w="2556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48120" y="6400800"/>
            <a:ext cx="5943600" cy="0"/>
          </a:xfrm>
          <a:prstGeom prst="line">
            <a:avLst/>
          </a:prstGeom>
          <a:ln w="2556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43400" y="1905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43400" y="11430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25146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2514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763120" y="25146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108240" y="731880"/>
            <a:ext cx="1001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A &amp; B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108240" y="1494000"/>
            <a:ext cx="696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108240" y="2865600"/>
            <a:ext cx="696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30600" y="3730680"/>
            <a:ext cx="1028880" cy="32544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502400" y="4340160"/>
            <a:ext cx="952560" cy="32544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759200" y="5025960"/>
            <a:ext cx="1181160" cy="32544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502400" y="3730680"/>
            <a:ext cx="1028880" cy="32544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30600" y="4340160"/>
            <a:ext cx="952560" cy="32544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911840" y="5178600"/>
            <a:ext cx="1181160" cy="325440"/>
          </a:xfrm>
          <a:prstGeom prst="rect">
            <a:avLst/>
          </a:prstGeom>
          <a:blipFill rotWithShape="0">
            <a:blip r:embed="rId17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064120" y="5330880"/>
            <a:ext cx="1181160" cy="325440"/>
          </a:xfrm>
          <a:prstGeom prst="rect">
            <a:avLst/>
          </a:prstGeom>
          <a:blipFill rotWithShape="0">
            <a:blip r:embed="rId18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978520" y="3730680"/>
            <a:ext cx="952560" cy="325440"/>
          </a:xfrm>
          <a:prstGeom prst="rect">
            <a:avLst/>
          </a:prstGeom>
          <a:blipFill rotWithShape="0">
            <a:blip r:embed="rId19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140440" y="3121200"/>
            <a:ext cx="1028880" cy="325440"/>
          </a:xfrm>
          <a:prstGeom prst="rect">
            <a:avLst/>
          </a:prstGeom>
          <a:blipFill rotWithShape="0">
            <a:blip r:embed="rId20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83040" y="3121200"/>
            <a:ext cx="1257480" cy="325440"/>
          </a:xfrm>
          <a:prstGeom prst="rect">
            <a:avLst/>
          </a:prstGeom>
          <a:blipFill rotWithShape="0">
            <a:blip r:embed="rId21"/>
            <a:tile tx="0" ty="0" sx="133018" sy="133018" algn="ctr"/>
          </a:blipFill>
          <a:ln w="25560">
            <a:solidFill>
              <a:srgbClr val="ef91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7655040" y="4492800"/>
            <a:ext cx="952560" cy="325440"/>
          </a:xfrm>
          <a:prstGeom prst="rect">
            <a:avLst/>
          </a:prstGeom>
          <a:blipFill rotWithShape="0">
            <a:blip r:embed="rId22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83240" y="4492800"/>
            <a:ext cx="952560" cy="325440"/>
          </a:xfrm>
          <a:prstGeom prst="rect">
            <a:avLst/>
          </a:prstGeom>
          <a:blipFill rotWithShape="0">
            <a:blip r:embed="rId23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978520" y="4340160"/>
            <a:ext cx="1181160" cy="325440"/>
          </a:xfrm>
          <a:prstGeom prst="rect">
            <a:avLst/>
          </a:prstGeom>
          <a:blipFill rotWithShape="0">
            <a:blip r:embed="rId24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130800" y="4492800"/>
            <a:ext cx="1181160" cy="325440"/>
          </a:xfrm>
          <a:prstGeom prst="rect">
            <a:avLst/>
          </a:prstGeom>
          <a:blipFill rotWithShape="0">
            <a:blip r:embed="rId25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283440" y="4645080"/>
            <a:ext cx="1181160" cy="325440"/>
          </a:xfrm>
          <a:prstGeom prst="rect">
            <a:avLst/>
          </a:prstGeom>
          <a:blipFill rotWithShape="0">
            <a:blip r:embed="rId26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30600" y="5788080"/>
            <a:ext cx="1181160" cy="325440"/>
          </a:xfrm>
          <a:prstGeom prst="rect">
            <a:avLst/>
          </a:prstGeom>
          <a:blipFill rotWithShape="0">
            <a:blip r:embed="rId27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83240" y="5940360"/>
            <a:ext cx="1181160" cy="325440"/>
          </a:xfrm>
          <a:prstGeom prst="rect">
            <a:avLst/>
          </a:prstGeom>
          <a:blipFill rotWithShape="0">
            <a:blip r:embed="rId28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121520" y="5025960"/>
            <a:ext cx="1181160" cy="325440"/>
          </a:xfrm>
          <a:prstGeom prst="rect">
            <a:avLst/>
          </a:prstGeom>
          <a:blipFill rotWithShape="0">
            <a:blip r:embed="rId29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7273800" y="5178600"/>
            <a:ext cx="1181160" cy="325440"/>
          </a:xfrm>
          <a:prstGeom prst="rect">
            <a:avLst/>
          </a:prstGeom>
          <a:blipFill rotWithShape="0">
            <a:blip r:embed="rId30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426440" y="5635800"/>
            <a:ext cx="1181160" cy="325440"/>
          </a:xfrm>
          <a:prstGeom prst="rect">
            <a:avLst/>
          </a:prstGeom>
          <a:blipFill rotWithShape="0">
            <a:blip r:embed="rId31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578720" y="5788080"/>
            <a:ext cx="1181160" cy="325440"/>
          </a:xfrm>
          <a:prstGeom prst="rect">
            <a:avLst/>
          </a:prstGeom>
          <a:blipFill rotWithShape="0">
            <a:blip r:embed="rId32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7731000" y="5940360"/>
            <a:ext cx="1181160" cy="325440"/>
          </a:xfrm>
          <a:prstGeom prst="rect">
            <a:avLst/>
          </a:prstGeom>
          <a:blipFill rotWithShape="0">
            <a:blip r:embed="rId33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343400" y="32767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34120" y="3429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00600" y="4038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248520" y="4038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96080" y="4038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52880" y="4800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43800" y="4648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46483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534520" y="48006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562720" y="3886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3886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534520" y="3886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41360" y="136440"/>
            <a:ext cx="5229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 Structure Desig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est_Sequ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41360" y="608040"/>
            <a:ext cx="803268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Sequence :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tructure to store data for each DTtest test initiation.  Indicate the sta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of test sequ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 item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Group  *test_group_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to Test_Group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Case  *test_case_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to Test_Case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  *test_request_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to Test_Request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 stat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tat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-- not been tested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 -- test 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-- test incomple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 *start_d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tarting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 *start_ti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tarting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 *stop_d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topping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 *stop_ti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topping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41360" y="136440"/>
            <a:ext cx="5450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 Structure Desig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mmand_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41360" y="608040"/>
            <a:ext cx="7137360" cy="32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_Data :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tructure to store data for each DTtest command 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 item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  *comma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  *test_inp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string or  test text/case/group file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  test_switc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witch in hexi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  *output_file_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output_file_ena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 enable switch.  0 -- for OFF, 1 -- for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speak_ena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enable switch.         0 -- for OFF, 1 -- for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  *work_directo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work dire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  *pri_fi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pre-conditionain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  *post_fi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post-conditionin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  *labe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la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41360" y="136440"/>
            <a:ext cx="4873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 Structure Desig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est_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41360" y="608040"/>
            <a:ext cx="786600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Group :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tructure to store data for each DTtest test grou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 item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Group  *nex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to next Test_Group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Case  *test_case_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to next test case block of this test group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_Data   *command_data_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data from DTtest command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 stat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tatus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-- not been tested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 -- test 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-- test incomple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 test_group_number_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group sequence number within test group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41360" y="136440"/>
            <a:ext cx="463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 Structure Desig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est_C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41360" y="608040"/>
            <a:ext cx="851544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Case :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tructure to store data for each DTtest test c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 item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Case  *nex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to next Test_Case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  *test_request_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to first test request block of this test cas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Group  *test_group_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to next Test_Group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_Data   *command_data_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data from DTtest command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 stat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tatus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-- not been tested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 -- test case PA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-- test case FAILED -2 -- test incomple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 test_case_number_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case sequence number within test group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 test_case_number_a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case sequence number within entire test seq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 test_group_number_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group sequence number within test group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41360" y="136440"/>
            <a:ext cx="5059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 Structure Desig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est_Requ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41360" y="608040"/>
            <a:ext cx="815832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 :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tructure to store each basic element of DTtest test requ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 item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  *nex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to next Test_Request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_Data   *command_data_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data from DTtest command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 stat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tatus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-- not been tested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-- test d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-- test incomple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 test_number_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quest sequence number within test cas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 test_number_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quest sequence number within test group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 test_number_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quest sequence number for entire test seq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41360" y="792000"/>
            <a:ext cx="845496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Ttester system over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evelopment and delivery p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ommand and arg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ommand RUN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ommand GOTO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est suite directory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Ttester system administ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ester input structure and ex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equence. Test request. Test text file. Test case file. Test group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ester output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sult file. Test log file. Test difference file. Test benchmark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ester initiation ex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ata structure layout and desig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Sequence. Test_Group. Test_Case. Test_Requ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ogram module functional desig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module. Input module. Process module. Interface mod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module. Utility mod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pen 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41360" y="136440"/>
            <a:ext cx="1454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t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41360" y="136440"/>
            <a:ext cx="6838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gram Module Functional Design(Main Mo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41360" y="608040"/>
            <a:ext cx="833904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module fun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. receive the command line arg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. allocate the instance of test_sequence data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. distribute the tasks to input/process/output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. system data logg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 name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main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(int *argc, char *argv[]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llocate the data structur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sequence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the starting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util_system_log( 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cord this test initiation i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sys\dttest.lo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put(argc,argv, &amp;test_sequence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process the input arg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build the complete test_sequence data structure and also execute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 test command is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TOP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process(&amp;test_sequence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cess the different run mode comm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est command 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, UPD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output(&amp;test_sequence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process these comman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ecord the stopping date/time i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sequ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util_system_log( 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cord this test ending and status i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sys\dttest.lo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41360" y="136440"/>
            <a:ext cx="6872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gram Module Functional Design(Input Mo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41360" y="608040"/>
            <a:ext cx="8670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module fun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. Process the command line arguments, provide the interactive input for non-op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. B uild the complete test_sequence data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. Execute “HELP”, “SHOW”, “BUILD” comm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 name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put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put(int *argc, char *argv[], Test_Sequence *test_seque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ead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sys\dttest.in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tch all the commad line arguments not in the dttest.ini file with the proper error check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upply interactive input for non-optional argument if missing from command 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util_build_test_seq(&amp;test_sequence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uild the complete test_sequenc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by nesting walk through input test file group file and input case file if necess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f test command 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then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util_get_help(&amp;test_sequenc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isplay help p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f test command 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then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put_show(&amp;test_seque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how the detailed description of test group/case file and test switch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f test command 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then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put_build(&amp;test_seque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go through test request/case/group building interactive proc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41360" y="136440"/>
            <a:ext cx="7413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gram Module Functional Design(Processor Mo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41360" y="608040"/>
            <a:ext cx="870588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or module fun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. Execute the different mode of RUNx_y_z comm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. communiciate interface module to interface with the targeted Dectalk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 name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process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process(Test_Sequence *test_seque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make sure the test command is RUN command and also determine the run mode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oding the RUNx_y_z synta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pe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log\-.re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for this test seq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alk through each test_request of entire test_sequence data structure until finish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ast test request or hit the test request issuing the “STOP” 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heck the test request number and test case number against the requested r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 to decide whether or not to execute this test requ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xecute the command in test group pre-coinditionin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xecute the command in test case pre-coinditionin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xecute the command in test request pre-coinditionin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uild up the top down test condition from test switch and other argu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ower level test condition only can not find them from higher level struc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pe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log\-.lo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for each test cas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_check_install( 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heck the Dectalk install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41360" y="303120"/>
            <a:ext cx="8508960" cy="59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f (test input of this test request is a text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_send_data(test_condition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nd test condition to Dectal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_send_data(text_string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end text string to Dectal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_get_data(data_log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ceive the data log from Dectal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rite the data log into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rlog\-.lo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f (test input of this test request is a test text fi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_send_data(test_condition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end test condition to Dectal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pe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txt\-.tx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for re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hile (not end of this fi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process_get_clause( 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ccumulate the text record to build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used text string or to a fix size text string if can not find th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und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_send_data(c_text_string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end clause text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ctal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_get_data(data_log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ceive the data log from Dectal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rite the data log into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rlog\-.lo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los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txt\-.tx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41360" y="303120"/>
            <a:ext cx="795492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los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log\-.lo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process_check_bmk(file_name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mpar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\log\-.lo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bmk\-.bm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xecute the command in test request post-coinditionin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xecute the command in test case post-coinditionin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xecute the command in test group post-coinditionin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ecord the test result in test_request/test_case/test_group data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rite the test result i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res\-.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los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res\-.re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41360" y="136440"/>
            <a:ext cx="732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gram Module Functional Design(Interface Mo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41360" y="608040"/>
            <a:ext cx="562464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 module fun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. Interface with Dectalk for data exchan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 name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face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_send_data(unsigned char *data, short dt_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get the size of data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dtt_inter_send_buffer( ) to send the data string to Dectalk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dtt_inter_flush( ) to flush the text buff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refer to the similar code in dtcommon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_send_char(unsigned char character, short dt_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end single character to Dectalk by calling _int86( ) rout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refer to send_char( ) of dtcommon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_send_buffer(char *data, short size, short dt_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end character string to Dectalk by calling _int86( ) rout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refer to sendb( ) of dtcommon.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41360" y="227160"/>
            <a:ext cx="6294600" cy="64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_get_data(unsigned char *data, short dt_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nitialize the data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hile (not reach the loop count 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dtt_inter_get_char( ) to get one character from return data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ppend this character into the data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ncrement the loop 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refer to the similar code in dtcommon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_get_char(unsigned char character, short dt_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get single character returned from Dectalk by calling _int86( ) rout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refer to gedch( ) of dtcommon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_check_install(unsigned char *data, short dt_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heck the installation of Dectalk by calling _int86( ) rout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refer to install( ) of dtcommon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_flush(unsigned char *datam short dt_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flush the text buffer calling _int86( ) rout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refer to flush( ) of dtcommon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41360" y="136440"/>
            <a:ext cx="7093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gram Module Functional Design(Output Mo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41360" y="684360"/>
            <a:ext cx="835200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module fun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. Execute “REVIEW”, “UPDATE”, “REMOVE” comm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 name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output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output(Test_Sequence *test_seque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tch the test command and test input from test_sequ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f test command 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then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output_review(&amp;test_seque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open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res\*.re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reviewing the test result of each test sequ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provide a option to view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dif\*.dif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for each test c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f test command 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then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output_update(&amp;test_seque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name the associated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log\*.lo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becom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\bmk\*.bmk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is test sequen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f test command 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then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output_remove(&amp;test_seque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move all the associated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log\*.lo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dif\*.dif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s for this test sequ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41360" y="136440"/>
            <a:ext cx="6973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gram Module Functional Design(Utility Mo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41360" y="684360"/>
            <a:ext cx="712476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ty module fun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. Provide the shared utility function for all the other modu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 name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utility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descrip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dtt_util_file_open(FILE **fp,m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  dtt_util_system_log(char *date, char *time, char *inform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  dtt_util_error_log(char *call_routine, char *error_messa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*dtt_util_case_change(char *string, short m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dtt_util_insert_list_tail(short list_type, void **list_head, void **item_to_ad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     dtt_util_mem_alloc(short data_typ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     dtt_util_mem_free(void *data_bloc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  dtt_util_list_free(short  list_type,void *list_he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*dtt_util_char_strip(char *string, char char_to_str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*dtt_util_string_substitute(char *string, char *string_1, char *string_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*dtt_util_string_catch(char *string, char deli_1, char deli_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dtt_util_strncmp_tail(char *string_1, char *string_2, short cou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 dtt_util_string_shift(char *string, short mode, short cou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dtt_util_strstr_special(char *string_1, char string_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 dtt_util_get_help(short m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 dtt_util_built_test_seq(Test_Sequence *test_seque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 dtt_util_user_message(short m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 dtt_util_get_argument(char *command_line, Command_Data *command_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41360" y="136440"/>
            <a:ext cx="1751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en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65040" y="1249200"/>
            <a:ext cx="665964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. Screen reader and third party product compatibility te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. Speech quality te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. Performance te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. Stress te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. DTtest support and next phase develop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41360" y="136440"/>
            <a:ext cx="3672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Ttester System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168640" y="3121200"/>
            <a:ext cx="952560" cy="56844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21120" y="1139760"/>
            <a:ext cx="1306440" cy="56844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255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ta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68440" y="4797360"/>
            <a:ext cx="969840" cy="99360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C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t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t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87400" y="4797360"/>
            <a:ext cx="1109520" cy="99360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g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g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159000" y="4797360"/>
            <a:ext cx="936720" cy="99360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21120" y="2130480"/>
            <a:ext cx="1257480" cy="56844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21120" y="3121200"/>
            <a:ext cx="1257480" cy="56844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826240" y="1673280"/>
            <a:ext cx="1494000" cy="99360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Benchm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bm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bm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911840" y="4797360"/>
            <a:ext cx="1089000" cy="99360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su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502400" y="4797360"/>
            <a:ext cx="936720" cy="99360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Di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83440" y="4797360"/>
            <a:ext cx="936720" cy="99360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578720" y="3197160"/>
            <a:ext cx="950760" cy="35568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33526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3352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10280" y="33526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419720" y="2666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724280" y="2666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324480" y="2666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724280" y="1676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419720" y="1676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666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666880" y="36576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553080" y="36576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066680" y="41148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7924680" y="41148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581280" y="41148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486400" y="41148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41148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362320" y="3657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971800" y="3657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858000" y="3657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172200" y="3657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4114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4114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86400" y="4114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635120" y="1292400"/>
            <a:ext cx="1795320" cy="141912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witch 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System log 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s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.map, dttest.i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.log, dttest.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pri, *.pos, *.b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819520" y="2666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514600" y="2666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921120" y="4035600"/>
            <a:ext cx="1257480" cy="56844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3657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3809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14800" y="3809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26668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38098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358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358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3581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3581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92120" y="3197160"/>
            <a:ext cx="990720" cy="35568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902200" y="3121200"/>
            <a:ext cx="1104840" cy="56844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41360" y="136440"/>
            <a:ext cx="4307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velopment and Delivery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65040" y="684360"/>
            <a:ext cx="59342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1.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i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. Support all 16/32/64 bits under MSDOS, WIN95, 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. Support ASCII string dataloging and benchma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. Support CMD, LTS and PH test/debug swit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. Support API tes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ed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/30/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2.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i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. Support Digital Unix test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. Support window G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. Support performance and stress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. Support VTM test/debug swit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ed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/30/9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3.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i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. Full function implem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. Support the intelligent conditional branch test sequ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. Support the automatic bug tracing and bug allo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ed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B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41360" y="136440"/>
            <a:ext cx="3537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mand and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41360" y="533520"/>
            <a:ext cx="854712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 “arg_1” “arg_2” “arg_3” “arg_4” “arg_5” “arg_6” “arg_7” “arg_8”  “arg_9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la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_1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test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text string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string not ended with “.bat”, “.txt”, “.tst” and “.grp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batch file  nam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string ended with “.bat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text f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-- string ended with “.txt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case f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 --  string ended with “.tst”, basic PASS/FAIL test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group f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 -- string ended with “.grp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_2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. 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or "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b). 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        stop the test sequence ru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. 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x_y_z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the test sequence. The defaulted comm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. 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TOx_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path within the test sequence ru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. 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the test result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f). 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   update the bench mark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. 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the test flow    .   h). 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 remove the test output fi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. ”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the test case file or test group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). ”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o the next test case after GOTOx_y stat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_3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/debug hexi code switch 0xYYYY.  Should be sent through [:debug YYYY] comm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_4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 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Only needed for “arg_1 = test text string or test text fil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est input is test case file, this output file name will override test case n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_5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 enab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.  ON/OFF.  Defaulted is “OFF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_6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speak enab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.  ON/OFF.  Defaulted is “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_7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ing directo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Defaulted is current directo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_8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conditioning fi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File should reside in \dtsys with file name extension *.pr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_9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-conditioning fi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File should reside in \dtsys with file name extension *.p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label 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 1-16 characters test label.  Must be lower c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41360" y="136440"/>
            <a:ext cx="3112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mand RUN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41360" y="684360"/>
            <a:ext cx="8062920" cy="32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 “arg_1” RUNx_y_z  “arg_3”  .........  “arg_9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defaulted run mode.  Test the entire test sequence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STOP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fir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ed t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1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un the test sequence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the first failed t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2_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un the test sequence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the test labe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3_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l tests before test labe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4_y_z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l tests excep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st labe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5_y_z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un the test sequence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P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st labe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41360" y="136440"/>
            <a:ext cx="3367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mand GOTO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41360" y="684360"/>
            <a:ext cx="540396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 “” GOTOx_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TO_y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o to the test labe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onditional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TOp_y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o to the test labe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revious test case P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TOf_y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Go to the test labe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revious test case FAI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17680" y="2727360"/>
            <a:ext cx="3740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mand RETURN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17680" y="3274920"/>
            <a:ext cx="594684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 “” 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Return to the test case after the last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TO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41360" y="136440"/>
            <a:ext cx="413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st Suite Director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41360" y="684360"/>
            <a:ext cx="835488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uit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 to install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.ex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start the DTtest test sequence. Can be any w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local drive or the network share dr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sy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 area. Will have 4 system files, 3 types of shareable special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.lo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- system log file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.er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- system fatal error log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.map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test/debug switch mapp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.in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test/debug switch initialization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pri -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conditioning file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pos -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-conditioning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ba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DOS batch file used in *.pri or *.pos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tst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case file area. With the file name extension a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t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of DTtest command 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grp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group file area. With the file name extension a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gr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of test case fi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txt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text file area. With the file name extension a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string used for tes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bm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bench mark file area. With the file name extension a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bm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pected test resu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r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sult file area. With the file name extension a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PASS/FAIL result of each test cas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log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log file area. With the file name extension a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logging result of each test cas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dif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difference file area. With the file name extension a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fferent data between .log file and .bmk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41360" y="136440"/>
            <a:ext cx="4416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Ttester System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41360" y="684360"/>
            <a:ext cx="819324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 files: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s reside in \dtsys directo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.log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system log file. Record the date/time and result of each DTtest comm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will start purging after 500 ent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.map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ailed test switch hexi code to test function mapping used for “SHOW”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” comm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.err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system error log file. Record every system fatal err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will start purging after 500 ent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.in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system initialization file. Will preset DTtest arguments to the initial st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format should  be as : arg_# = “....”    # is 1 to 9.  One argument per 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pr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pre-conditioning file.  The contents of this file should be a list of DTtest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the DTTest command running the *.bat file used to preset the test cond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po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post-conditioning file.  The contents of this file should be a list of DTtest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the DTTest command to running the *.bat file used to reset the test cond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ba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batch file used in *.pri or *.pos file to execute other DOS command or run 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.  Can be used to create the filter for test setup or test resu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inger C. Lin</dc:creator>
  <dc:description/>
  <dc:language>en-US</dc:language>
  <cp:lastModifiedBy>Ginger C. Lin</cp:lastModifiedBy>
  <cp:revision>0</cp:revision>
  <dc:subject/>
  <dc:title>Dectalk tester</dc:title>
</cp:coreProperties>
</file>