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32365-AB00-4E3E-BA54-6F8E1612C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5835A-222C-401E-8437-46074955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7461D-666D-49E0-8DAB-E11304312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7ABC4-68C0-4D40-9C30-4203EB506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31FD0-6F7F-45E8-9D87-3EB7595D4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7792-41AC-4689-A739-F3A17402F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21A03-B0BA-46E6-A7E5-7D9BD059F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F6C13-241A-4046-B628-417CB6BAF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3B793-A0B5-43DF-B3AB-838D14BE3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498C7-80D2-418A-9D92-25F7AFBC8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4A6BC-0F71-4077-8364-E9F6BF7C2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40C3D-5D4B-4629-96D4-D17031C6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C901-28A0-421A-B0F6-9CCD7586B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B1868-EBB4-45C5-B81D-B2136AB2B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FBEFB-FFC2-4DCB-8C25-460DC06B4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BD8D6-CE82-410B-BE96-02FEDECF3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D52E7-78DF-4E59-8442-0E667DEF9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565F8-115D-442A-8024-A062DC16E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42B4-94EA-4AB1-AA3C-335FA96F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16AAA-C8ED-4ED0-A714-2F51845CA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116C-CF60-4DF1-8B8A-26AF01EC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B28AC-BF89-453B-8EC9-26A3422DD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7027-3B4C-490D-AFE5-4F17B09AA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4DFE-C499-4562-AF88-79E5922E9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ffffff">
                  <a:alpha val="50196"/>
                </a:srgbClr>
              </a:gs>
              <a:gs pos="100000">
                <a:srgbClr val="9d9d9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2280" y="1752480"/>
            <a:ext cx="4724640" cy="15264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5800" y="6629400"/>
            <a:ext cx="3505320" cy="227160"/>
          </a:xfrm>
          <a:prstGeom prst="rect">
            <a:avLst/>
          </a:prstGeom>
          <a:gradFill rotWithShape="0">
            <a:gsLst>
              <a:gs pos="0">
                <a:srgbClr val="454545"/>
              </a:gs>
              <a:gs pos="50000">
                <a:srgbClr val="969696"/>
              </a:gs>
              <a:gs pos="100000">
                <a:srgbClr val="4545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62120" y="762120"/>
            <a:ext cx="8380440" cy="761760"/>
          </a:xfrm>
          <a:prstGeom prst="rect">
            <a:avLst/>
          </a:prstGeom>
          <a:gradFill rotWithShape="0">
            <a:gsLst>
              <a:gs pos="0">
                <a:srgbClr val="26262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9d9d9d"/>
              </a:gs>
              <a:gs pos="50000">
                <a:srgbClr val="ffffff">
                  <a:alpha val="50196"/>
                </a:srgbClr>
              </a:gs>
              <a:gs pos="100000">
                <a:srgbClr val="9d9d9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85800" y="2438280"/>
            <a:ext cx="8456760" cy="762120"/>
          </a:xfrm>
          <a:prstGeom prst="rect">
            <a:avLst/>
          </a:prstGeom>
          <a:gradFill rotWithShape="0">
            <a:gsLst>
              <a:gs pos="0">
                <a:srgbClr val="26262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Edit²</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vin Bruckert</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ital Equipment Corp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DI Suppor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DI Support allows data manipulation to occur when a user modifies a piece of data. This feature also allows for new windows of information for add-on data which is not stored in the primary windo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talk</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Ctalk plug-in was created to support immediate load of PH data and synthesize a phoneme combination for the rest of the PGI plug-ins</a:t>
            </a:r>
            <a:endParaRPr b="1" lang="en-US" sz="2800" spc="-1" strike="noStrike">
              <a:solidFill>
                <a:srgbClr val="000000"/>
              </a:solidFill>
              <a:latin typeface="Arial"/>
            </a:endParaRPr>
          </a:p>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er</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layer is required to hear the phonemes being produced from DECtal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scilloscope is available to look at actual data as raw wave format</a:t>
            </a:r>
            <a:endParaRPr b="1" lang="en-US" sz="28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trogram</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pectrogram window is available for the PGI interface which displays a spectral analysis of the three-phoneme combination produced by DECtal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ug-ins Availabl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Slid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ata Plug-in which adjusts target time information when the duration of a phoneme changes based on a percentile engi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tarteam project was created as a temporary repository for PHEdit², awaiting the creation of a fully functional tools repository for related tools which need the backup and version control reliability provided by starteam, without being checked into the primary code po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78000"/>
          </a:bodyPr>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mber 19th, 1997: PHEdit² went to Alpha Release 5</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7th, 1998: PHEdit² entered Beta Cycle 1</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24th, 1998: PHEdit² will enter Beta Cycle 2</a:t>
            </a:r>
            <a:endParaRPr b="1" lang="en-US" sz="3200" spc="-1" strike="noStrike">
              <a:solidFill>
                <a:srgbClr val="000000"/>
              </a:solidFill>
              <a:latin typeface="Arial"/>
            </a:endParaRPr>
          </a:p>
          <a:p>
            <a:pPr marL="267480" indent="-267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nuary 31st, 1998: PHEdit² will be completed, and version 2.0 reviewe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atu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a 1 contains all known bug fixes and appears to be stabl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entered Alpha Release 5 sixteen days ahead of schedu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entered Beta Cycle 1 three days ahead of schedu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Features in Beta 1</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ion of first PDI (TarSlide) and all known bugs fixed in all plug-ins</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g-in Specification 1.1 Supported</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 Interface v1.0 Supported</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Presentat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comments, sugges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Goal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e the task of creating new languages and enhancing the quality of existing languages phonetic information</a:t>
            </a:r>
            <a:endParaRPr b="1" lang="en-US" sz="3200" spc="-1" strike="noStrike">
              <a:solidFill>
                <a:srgbClr val="000000"/>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system which is compatible to existing hardware and software products with minimal DECtalk™ design level chang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32004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ool allows organized display and modification of phonetic data used by the PH engine which otherwise is painful and time-consuming to modify.</a:t>
            </a:r>
            <a:endParaRPr b="1" lang="en-US" sz="2800" spc="-1" strike="noStrike">
              <a:solidFill>
                <a:srgbClr val="000000"/>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on of full PHRom files via a proprietary file format and a gender combining compil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ous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 versions required extensive changes to DECtalk and were not portable to the hardware platfor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footprint of old PH file formats were significantly larger and less expandab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R file format specification and suppor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edit ability of all fields of current PHRom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fields for future support and cleaner code</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R: Gender Independent Ro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ve Analysi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Vers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Language-dependent PGI and PDI selecto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lug-ins supporting data entry and manipulation, as well as the new GAI format for accelerated language development</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 Graphical Acquisition Interfa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D file format</a:t>
            </a:r>
            <a:endParaRPr b="1"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PHD file format is based on the RIFF standard, and has support for backwards compatibility, encryption, and comment support, as well as possible support for undo and data revision control</a:t>
            </a:r>
            <a:endParaRPr b="1"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FF: Resource Interchange File Form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g-in System Support</a:t>
            </a:r>
            <a:endParaRPr b="1"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dit² supports both PGI plug-ins, and PDI plug-ins. Both plug-in systems have the ability to act as a filter, although PGI filters must register themselves as filter level plug-ins to manipulate the data being passed</a:t>
            </a:r>
            <a:endParaRPr b="1" lang="en-US" sz="2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GI: Plug-in Graphical Interface</a:t>
            </a:r>
            <a:endParaRPr b="1"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DI: Plug-in Data Interfa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GI Support</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GI interface allows graphical interpretations of the data used in the editor in conjunction with a special DECtalk module known as KLSYN.PGI. This module has core components of DECtalk to allow for PH data to be replaced by the editor, and tested in real-tim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30T15:37:05Z</dcterms:created>
  <dc:creator>Kevin Bruckert</dc:creator>
  <dc:description/>
  <dc:language>en-US</dc:language>
  <cp:lastModifiedBy>Kevin Bruckert</cp:lastModifiedBy>
  <cp:lastPrinted>1997-12-30T16:31:44Z</cp:lastPrinted>
  <dcterms:modified xsi:type="dcterms:W3CDTF">1998-01-07T19:27:21Z</dcterms:modified>
  <cp:revision>12</cp:revision>
  <dc:subject/>
  <dc:title>PHEdit²</dc:title>
</cp:coreProperties>
</file>