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253040" y="25884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70160" y="262080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136440" y="4983120"/>
            <a:ext cx="47703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Ctal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8840" y="6446880"/>
            <a:ext cx="1060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L. 06/01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320"/>
            <a:ext cx="899172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327560" y="6427800"/>
            <a:ext cx="45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3E27F2B-933C-483D-A762-27C7FA7FF6AB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1.png"/><Relationship Id="rId20" Type="http://schemas.openxmlformats.org/officeDocument/2006/relationships/image" Target="../media/image3.png"/><Relationship Id="rId21" Type="http://schemas.openxmlformats.org/officeDocument/2006/relationships/image" Target="../media/image5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4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44792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talk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Regression Tes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Ttester V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ger C. Lin/Carl Leeber/Mike Garu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1/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41360" y="13644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360" y="684360"/>
            <a:ext cx="856440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 and arguments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element for DTtest test sequ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ntered as DOS command or included in the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: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RUN command along with test text string or test text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ASCII text string used as test input(arg_1) for DTtest RUN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gular ASCII text files used as Dectalk input 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ile should have one or more DTtest test request.  Each DTtest request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 a test number starting from test number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 One DTtest test request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1(test input) of test request must be “text string” or  “test text fi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4(output file name) of every test request will be ignored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test request per file -- 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eading “;” for comment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ile should have one more DTtest command with test case file name or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 One DTtest command/file name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Ttest command per file -- 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eading “;” for comment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41360" y="13644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put Structure(Exampl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0440" y="987480"/>
            <a:ext cx="8223120" cy="3556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2120" y="1825560"/>
            <a:ext cx="4229280" cy="3556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64120" y="1825560"/>
            <a:ext cx="2324160" cy="3556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5800" y="3578400"/>
            <a:ext cx="2705040" cy="3556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54640" y="3578400"/>
            <a:ext cx="3314880" cy="3556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16000" y="2739960"/>
            <a:ext cx="2705040" cy="3556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664320" y="2739960"/>
            <a:ext cx="1943280" cy="35568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7440" y="4568760"/>
            <a:ext cx="1390680" cy="35568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73600" y="4568760"/>
            <a:ext cx="1390680" cy="3556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20920" y="4568760"/>
            <a:ext cx="1380960" cy="35568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2120" y="4568760"/>
            <a:ext cx="1390680" cy="35568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73800" y="4568760"/>
            <a:ext cx="1380960" cy="3556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2120" y="5559480"/>
            <a:ext cx="1380960" cy="3556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54640" y="5559480"/>
            <a:ext cx="2019240" cy="35568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97240" y="5559480"/>
            <a:ext cx="1409760" cy="3556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73800" y="5559480"/>
            <a:ext cx="1409760" cy="35568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962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133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1337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9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1295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21337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3124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41360" y="136440"/>
            <a:ext cx="33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Outpu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1360" y="684360"/>
            <a:ext cx="86425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is associated to the test group file, test case file or output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DTtest command line depended on the way to initiate the t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4 difference test status for each test c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    -- test case pa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     -- test case fai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    -- new test case. can’t find test benchmar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 -- test case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 fil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ata log file for each test case file. The file name will be same as the test case fil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 arg_1 if there is no output file name in arg_4.  If there is 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pecified in arg_4 then use it as the log fil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file between test log file and test benchmark 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mark fil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name ext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ected test result 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41360" y="1364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er Initi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1360" y="608040"/>
            <a:ext cx="86263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A -- test text st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his is a test” “run” “0001” “test123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create test123.res,  test123.log and look for test123.bmk to create test123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B -- test text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123.txt” “run” “0001” “test1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xt file test123.txt, then create test1.res,  test1.log and look for test1.bmk to 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1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 -- test case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456.tst” “run” “0011” “” “OFF” “OFF” “” “” “” /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st case file test456.tst, then create test456.res,  test456.log and loo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456.bmk to create test456.dif. Only allow DTtest command with the format of  Case A and B wi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456.tst.  The arg_4 of each DTtest command will be ignored.  The arg_3 to arg_7 will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ever in each DTtest command line inside test456.tst.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used for the destin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x_p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D --  test group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“test789.grp” “run” “0111” “” “ON” “ON” “” “”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read input test group file test789.grp, then create test789.res. Only allow DTtest command with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of Case C or Case D within test789.grp. It will create a set of .log .dif files for each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Case C.  The arg_3 to arg_7 of this command will override whatever inside test789.g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41360" y="13644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8440" y="2435400"/>
            <a:ext cx="1866960" cy="10555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test_case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8440" y="3807000"/>
            <a:ext cx="2324160" cy="12384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test_request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8440" y="5407200"/>
            <a:ext cx="1638360" cy="8730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8440" y="835200"/>
            <a:ext cx="2324160" cy="12384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*test_group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*test_case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*test_request_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140440" y="987480"/>
            <a:ext cx="1181160" cy="32544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0440" y="1749600"/>
            <a:ext cx="952560" cy="325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83040" y="1749600"/>
            <a:ext cx="1257480" cy="32544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83040" y="987480"/>
            <a:ext cx="1257480" cy="3254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30600" y="2359080"/>
            <a:ext cx="1181160" cy="32544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78720" y="2359080"/>
            <a:ext cx="1181160" cy="3254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54840" y="2359080"/>
            <a:ext cx="1181160" cy="32544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144792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81952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6400800"/>
            <a:ext cx="5943600" cy="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905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1143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63120" y="2514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108240" y="731880"/>
            <a:ext cx="1001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A &amp; 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08240" y="1494000"/>
            <a:ext cx="696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08240" y="2865600"/>
            <a:ext cx="696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30600" y="3730680"/>
            <a:ext cx="1028880" cy="32544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02400" y="4340160"/>
            <a:ext cx="952560" cy="32544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59200" y="5025960"/>
            <a:ext cx="1181160" cy="325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02400" y="3730680"/>
            <a:ext cx="1028880" cy="32544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30600" y="4340160"/>
            <a:ext cx="952560" cy="32544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1840" y="5178600"/>
            <a:ext cx="1181160" cy="32544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64120" y="5330880"/>
            <a:ext cx="1181160" cy="32544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978520" y="3730680"/>
            <a:ext cx="952560" cy="32544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40440" y="3121200"/>
            <a:ext cx="1028880" cy="32544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83040" y="3121200"/>
            <a:ext cx="1257480" cy="32544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25560">
            <a:solidFill>
              <a:srgbClr val="ef91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55040" y="4492800"/>
            <a:ext cx="952560" cy="32544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240" y="4492800"/>
            <a:ext cx="952560" cy="32544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978520" y="4340160"/>
            <a:ext cx="1181160" cy="32544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30800" y="4492800"/>
            <a:ext cx="1181160" cy="32544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3440" y="4645080"/>
            <a:ext cx="1181160" cy="32544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30600" y="5788080"/>
            <a:ext cx="1181160" cy="32544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240" y="5940360"/>
            <a:ext cx="1181160" cy="32544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121520" y="5025960"/>
            <a:ext cx="1181160" cy="32544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273800" y="5178600"/>
            <a:ext cx="1181160" cy="32544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426440" y="5635800"/>
            <a:ext cx="1181160" cy="32544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578720" y="5788080"/>
            <a:ext cx="1181160" cy="32544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31000" y="5940360"/>
            <a:ext cx="1181160" cy="32544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4800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534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1360" y="136440"/>
            <a:ext cx="522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41360" y="608040"/>
            <a:ext cx="80326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initiation.  Indicate the sta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of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test_case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Case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test_request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Test_Reques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art_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ing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art_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op_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ping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*stop_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p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41360" y="136440"/>
            <a:ext cx="5450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mand_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41360" y="608040"/>
            <a:ext cx="713736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comm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test_in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string or  test text/case/grou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  test_swi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witch in hexi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output_file_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output_file_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enable switch.  0 -- for OFF, 1 -- fo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speak_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enable switch.         0 -- for OFF, 1 -- for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work_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ork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pri_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e-conditiona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post_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ost-co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  *lab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41360" y="136440"/>
            <a:ext cx="487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1360" y="608040"/>
            <a:ext cx="786600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test_case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 case block of this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group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41360" y="13644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41360" y="608040"/>
            <a:ext cx="851544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data for each DTtest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Case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Case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test_request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first test request block of this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Group  *test_group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Group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 -- test case P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case FAILED -2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case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case_number_a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sequence number within entire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group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41360" y="136440"/>
            <a:ext cx="5059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Structure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st_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1360" y="608040"/>
            <a:ext cx="81583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to store each basic element of DTtest test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item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Request  *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next Test_Request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_Data   *command_data_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data from DTtest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tu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- not been test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-- test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-- test incompl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within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within test group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 test_number_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est sequence number for entire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41360" y="792000"/>
            <a:ext cx="845496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Ttester system over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velopment and delivery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and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RUN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mmand GOTO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 suite directory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Ttester system admini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input structure and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equence. Test request. Test text file. Test case file. Test group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output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. Test log file. Test difference file. Test benchmark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ster initiation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ata structure layout and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. Test_Group. Test_Case. Test_Requ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gram module functional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dule. Input module. Process module. Interface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odule. Utility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1360" y="13644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41360" y="136440"/>
            <a:ext cx="68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Main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41360" y="608040"/>
            <a:ext cx="83390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receive the command line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allocate the instance of test_sequence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distribute the tasks to input/process/out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ystem data logg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mai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int *argc, char *argv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ocate the data structu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he starting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system_log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rd this test initiation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(argc,argv, &amp;test_sequenc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cess the input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uild the complete test_sequence data structure and also execut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test command is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(&amp;test_sequenc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cess the different run mode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, 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(&amp;test_sequenc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cess these com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rd the stopping date/time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_sequ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system_log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rd this test ending and status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41360" y="136440"/>
            <a:ext cx="68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Input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1360" y="608040"/>
            <a:ext cx="8670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Process the command line arguments, provide the interactive input for non-op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B uild the complete test_sequence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Execute “HELP”, “SHOW”, “BUILD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(int *argc, char *argv[], 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ad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\dttest.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tch all the commad line arguments not in the dttest.ini file with the proper error 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pply interactive input for non-optional argument if missing from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build_test_seq(&amp;test_sequenc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uild the complete test_seque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by nesting walk through input test file group file and input case file if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_get_help(&amp;test_sequen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play help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_show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how the detailed description of test group/case file and test switch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put_build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through test request/case/group building interactiv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41360" y="136440"/>
            <a:ext cx="741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Processor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1360" y="608040"/>
            <a:ext cx="87058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Execute the different mode of RUNx_y_z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communiciate interface module to interface with the targeted Dectalk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ke sure the test command is RUN command and also determine the run mode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the RUNx_y_z synta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this tes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alk through each test_request of entire test_sequence data structure until finish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st test request or hit the test request issuing the “STOP”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eck the test request number and test case number against the requested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to decide whether or not to execute this test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group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case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request pre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ild up the top down test condition from test switch and other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ower level test condition only can not find them from higher leve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each test c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check_install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heck the Dectalk instal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41360" y="303120"/>
            <a:ext cx="8508960" cy="59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(test input of this test request is a text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st_conditio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nd test condition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xt_strin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ext string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data_lo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eive the data log from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data log into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r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(test input of this test request is a test text 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test_condition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est condition 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\-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(not end of this 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_get_clause( 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cumulate the text record to build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d text string or to a fix size text string if can not find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c_text_strin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clause tex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data_log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eive the data log from Dec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data log into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r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\-.tx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41360" y="303120"/>
            <a:ext cx="79549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process_check_bmk(file_name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\log\-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\-.b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request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case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ecute the command in test group post-coindition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cord the test result in test_request/test_case/test_group 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rite the test result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-.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lo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-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41360" y="136440"/>
            <a:ext cx="73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Interface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1360" y="608040"/>
            <a:ext cx="5624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Interface with Dectalk for data exch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face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data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 the size of data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send_buffer( ) to send the data string to Dectalk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flush( ) to flush the text buff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the similar code in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char(unsigned char character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nd single character to Dectalk by calling _int86( ) rout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send_char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send_buffer(char *data, short size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nd character string to Dectalk by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sendb( ) of dtcommon.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41360" y="227160"/>
            <a:ext cx="629460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data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itialize the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hile (not reach the loop count 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ll dtt_inter_get_char( ) to get one character from return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pend this character into the data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rement the loop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the similar code in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get_char(unsigned char character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get single character returned from Dectalk by calling _int86( ) rout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gedch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check_install(unsigned char *data,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eck the installation of Dectalk by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install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inter_flush(unsigned char *datam short dt_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ush the text buffer calling _int86( )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refer to flush( ) of dtcommon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41360" y="136440"/>
            <a:ext cx="709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Output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41360" y="684360"/>
            <a:ext cx="835200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Execute “REVIEW”, “UPDATE”, “REMOVE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atch the test command and test input from test_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review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pen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\*.r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viewing the test result of each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provide a option to view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\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 each test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update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name the associ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becom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\bmk\*.bm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test sequ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est comman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n cal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output_remove(&amp;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move all the associat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\*.lo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\*.d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for this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41360" y="136440"/>
            <a:ext cx="6973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 Module Functional Design(Utility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41360" y="684360"/>
            <a:ext cx="712476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module fun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Provide the shared utility function for all the other m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nam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_utility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scrip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file_open(FILE **fp,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system_log(char *date, char *time, char *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error_log(char *call_routine, char *error_mess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case_change(char *string, 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insert_list_tail(short list_type, void **list_head, void **item_to_a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    dtt_util_mem_alloc(short data_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     dtt_util_mem_free(void *data_blo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 dtt_util_list_free(short  list_type,void *list_he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char_strip(char *string, char char_to_str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string_substitute(char *string, char *string_1, char *string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*dtt_util_string_catch(char *string, char deli_1, char deli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 dtt_util_strncmp_tail(char *string_1, char *string_2, short 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string_shift(char *string, short mode, short 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tt_util_strstr_special(char *string_1, char string_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get_help(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built_test_seq(Test_Sequence *test_sequ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user_message(short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 dtt_util_get_argument(char *command_line, Command_Data *comman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41360" y="136440"/>
            <a:ext cx="175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5040" y="1249200"/>
            <a:ext cx="66596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Screen reader and third party product compatibi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Speech quality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Performance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Stress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DTtest support and next phase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1360" y="13644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Ttester System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68640" y="3121200"/>
            <a:ext cx="952560" cy="56844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21120" y="1139760"/>
            <a:ext cx="1306440" cy="5684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t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8440" y="4797360"/>
            <a:ext cx="969840" cy="9936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7400" y="4797360"/>
            <a:ext cx="1109520" cy="9936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59000" y="4797360"/>
            <a:ext cx="936720" cy="99360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2130480"/>
            <a:ext cx="1257480" cy="568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21120" y="3121200"/>
            <a:ext cx="1257480" cy="56844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26240" y="1673280"/>
            <a:ext cx="1494000" cy="99360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m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11840" y="4797360"/>
            <a:ext cx="1089000" cy="99360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02400" y="4797360"/>
            <a:ext cx="936720" cy="99360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3440" y="4797360"/>
            <a:ext cx="936720" cy="9936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78720" y="3197160"/>
            <a:ext cx="950760" cy="35568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3526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197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7242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2428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19720" y="167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55308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666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9246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8128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4114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1148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9718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8580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17220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35120" y="1292400"/>
            <a:ext cx="1795320" cy="1419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25560">
            <a:solidFill>
              <a:srgbClr val="6e0043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witch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ystem log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, dttest.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, dttest.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, *.pos, *.b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21120" y="4035600"/>
            <a:ext cx="1257480" cy="568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666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809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2120" y="3197160"/>
            <a:ext cx="990720" cy="35568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2556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902200" y="3121200"/>
            <a:ext cx="1104840" cy="56844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2556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41360" y="136440"/>
            <a:ext cx="4307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velopment and Delivery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040" y="684360"/>
            <a:ext cx="5934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1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Support all 16/32/64 bits under MSDOS, WIN95,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ASCII string dataloging and benchma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CMD, LTS and PH test/debug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upport API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30/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Support Digital Unix test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window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performance and stress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Support VTM test/debug swi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/30/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3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Full function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Support the intelligent conditional branch test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Support the automatic bug tracing and bug allo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41360" y="1364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and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360" y="533520"/>
            <a:ext cx="854712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arg_1” “arg_2” “arg_3” “arg_4” “arg_5” “arg_6” “arg_7” “arg_8”  “arg_9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test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string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string not ended with “.bat”, “.txt”, “.tst” and “.gr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atch file  na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string ended with “.ba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-- string ended with “.tx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--  string ended with “.tst”, basic PASS/FAIL test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-- string ended with “.gr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r "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       stop the test sequence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x_y_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test sequence. The defaulted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x_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path within the test sequence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test resul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  update the bench mar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test flow    .   h).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remove the test output 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. 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the test case file or test group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. 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o the next test case after GOTOx_y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/debug hexi code switch 0xYYYY.  Should be sent through [:debug YYYY]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Only needed for “arg_1 = test text string or test text fi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 input is test case file, this output file name will override test cas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 en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.  ON/OFF.  Defaulted is “OFF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speak en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.  ON/OFF.  Defaulted is “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faulted is current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8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ile should reside in \dtsys with file name extension *.p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_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ile should reside in \dtsys with file name extension *.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abel 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1-16 characters test label.  Must be lower c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41360" y="136440"/>
            <a:ext cx="31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RU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1360" y="684360"/>
            <a:ext cx="8062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arg_1” RUNx_y_z  “arg_3”  .........  “arg_9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defaulted run mode.  Test the entir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TO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ed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irst failed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2_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3_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tests befor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4_y_z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tests excep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5_y_z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un the test sequence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41360" y="136440"/>
            <a:ext cx="33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GOTO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1360" y="684360"/>
            <a:ext cx="540396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” GOTOx_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_y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dition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p_y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vious test case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f_y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Go to the test labe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revious test case F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7680" y="2727360"/>
            <a:ext cx="3740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 RETUR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7680" y="3274920"/>
            <a:ext cx="59468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 “”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Return to the test case after the las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1360" y="136440"/>
            <a:ext cx="413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st Suite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360" y="684360"/>
            <a:ext cx="835488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ui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to install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x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art the DTtest test sequence. Can be any 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local drive or the network share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sy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 area. Will have 4 system files, 3 types of shareable special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system log fil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r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system fatal error log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est/debug switch map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in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est/debug switch initialization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ing fil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os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ing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DOS batch file used in *.pri or *.pos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s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DTtest command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gr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group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g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test case f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tx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text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string used for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bm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bench mark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pected test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sult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ASS/FAIL result of each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lo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logging result of each test cas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dtd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difference file area. With the file name extension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t data between .log file and .bmk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41360" y="136440"/>
            <a:ext cx="4416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Ttester Syste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1360" y="684360"/>
            <a:ext cx="819324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 files: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reside in \dtsys direc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lo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log file. Record the date/time and result of each DTtest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will start purging after 500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map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st switch hexi code to test function mapping used for “SHOW”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” comm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er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error log file. Record every system fatal err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will start purging after 500 e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.in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test system initialization file. Will preset DTtest arguments to the initial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format should  be as : arg_# = “....”    # is 1 to 9.  One argument per 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r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e-conditioning file.  The contents of this file should be a list of DT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DTTest command running the *.bat file used to preset the test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po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ost-conditioning file.  The contents of this file should be a list of DT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DTTest command to running the *.bat file used to reset the test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b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batch file used in *.pri or *.pos file to execute other DOS command or run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.  Can be used to create the filter for test setup or test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nger C. Lin</dc:creator>
  <dc:description/>
  <dc:language>en-US</dc:language>
  <cp:lastModifiedBy>Ginger C. Lin</cp:lastModifiedBy>
  <cp:revision>0</cp:revision>
  <dc:subject/>
  <dc:title>Dectalk tester</dc:title>
</cp:coreProperties>
</file>