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2B0-0C14-47C7-8212-5AD5CED5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223-8F00-4E9E-BD3C-4F666AAD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7B7-3F4F-422F-9B03-D8DD7CBE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A30-D06A-4A48-8E57-9B0453E9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B68-6967-4371-B2DE-75BDFB86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AED-1984-4BE9-872C-45729BFB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EDB-6D3E-42CA-9B50-0FC6AB89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E81-2795-433B-86C2-05EE9E66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4B1-EC75-438B-8A75-81C0D440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864-0D0C-42E5-A1CA-7F8EB681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224-3B25-460D-BEA7-2439E63E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03E-8AB7-48D0-ABDA-DD01FDDF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817A-4C5F-4AC8-B5DA-C36397316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30481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PHEdit2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30481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PHEdit2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0481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22096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File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25909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v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03848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200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3200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38480" y="2743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0574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boutDl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5053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9625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3336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3336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339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gMg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3657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5053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9625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0516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0516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48769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ame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5146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plashW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133720" y="2209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13336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44197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10516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91404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14040" y="3200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914040" y="3124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16:21:43Z</dcterms:created>
  <dc:creator>Kevin Bruckert</dc:creator>
  <dc:description/>
  <dc:language>en-US</dc:language>
  <cp:lastModifiedBy>Kevin Bruckert</cp:lastModifiedBy>
  <cp:lastPrinted>1998-02-11T16:42:03Z</cp:lastPrinted>
  <dcterms:modified xsi:type="dcterms:W3CDTF">1998-02-11T16:42:05Z</dcterms:modified>
  <cp:revision>2</cp:revision>
  <dc:subject/>
  <dc:title>No Slide Title</dc:title>
</cp:coreProperties>
</file>