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84520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96720" y="3599280"/>
            <a:ext cx="84520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27880" y="128556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96720" y="359928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27880" y="359928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27212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54400" y="1285560"/>
            <a:ext cx="27212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12080" y="1285560"/>
            <a:ext cx="27212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96720" y="3599280"/>
            <a:ext cx="27212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54400" y="3599280"/>
            <a:ext cx="27212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12080" y="3599280"/>
            <a:ext cx="27212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396720" y="1285560"/>
            <a:ext cx="84520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29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84520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4124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727880" y="1285560"/>
            <a:ext cx="4124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96360" y="-360"/>
            <a:ext cx="844236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29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27880" y="1285560"/>
            <a:ext cx="4124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396720" y="359928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96720" y="1285560"/>
            <a:ext cx="845208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2976"/>
              </a:spcBef>
              <a:spcAft>
                <a:spcPts val="876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4124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27880" y="128556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727880" y="359928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7880" y="128556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96720" y="3599280"/>
            <a:ext cx="84520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84520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96720" y="3599280"/>
            <a:ext cx="84520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727880" y="128556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96720" y="359928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727880" y="359928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27212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54400" y="1285560"/>
            <a:ext cx="27212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112080" y="1285560"/>
            <a:ext cx="27212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396720" y="3599280"/>
            <a:ext cx="27212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54400" y="3599280"/>
            <a:ext cx="27212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112080" y="3599280"/>
            <a:ext cx="272124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84520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4124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27880" y="1285560"/>
            <a:ext cx="4124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96360" y="-360"/>
            <a:ext cx="8442360" cy="462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29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27880" y="1285560"/>
            <a:ext cx="4124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96720" y="359928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412452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7880" y="128556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27880" y="359928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96720" y="128556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7880" y="1285560"/>
            <a:ext cx="412452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96720" y="3599280"/>
            <a:ext cx="8452080" cy="211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speech%20nusample%20text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96360" y="-360"/>
            <a:ext cx="8442360" cy="99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Humnst777 BT"/>
              </a:rPr>
              <a:t>Click to edit the title text format</a:t>
            </a:r>
            <a:endParaRPr b="1" lang="en-US" sz="3000" spc="-1" strike="noStrike">
              <a:solidFill>
                <a:srgbClr val="ffff00"/>
              </a:solidFill>
              <a:latin typeface="Humnst777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396720" y="1285560"/>
            <a:ext cx="8452080" cy="44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68560" indent="-26856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Clr>
                <a:srgbClr val="ffff00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umnst777 BT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  <a:p>
            <a:pPr lvl="1" marL="630720" indent="-25668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Clr>
                <a:srgbClr val="ffe101"/>
              </a:buClr>
              <a:buSzPct val="85000"/>
              <a:buFont typeface="Humnst777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umnst777 BT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  <a:p>
            <a:pPr lvl="2" marL="946440" indent="-21024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Clr>
                <a:srgbClr val="ffe101"/>
              </a:buClr>
              <a:buSzPct val="85000"/>
              <a:buFont typeface="Times New Roman"/>
              <a:buChar char="~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umnst777 BT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  <a:p>
            <a:pPr lvl="3" marL="1261800" indent="-21024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Clr>
                <a:srgbClr val="ffe101"/>
              </a:buClr>
              <a:buSzPct val="85000"/>
              <a:buFont typeface="Humnst777 B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umnst777 BT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  <a:p>
            <a:pPr lvl="4" marL="1892520" indent="-21024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Clr>
                <a:srgbClr val="ffcc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umnst777 BT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  <a:p>
            <a:pPr lvl="5" marL="1892520" indent="-21024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umnst777 BT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  <a:p>
            <a:pPr lvl="6" marL="1892520" indent="-210240">
              <a:lnSpc>
                <a:spcPct val="85000"/>
              </a:lnSpc>
              <a:spcBef>
                <a:spcPts val="2551"/>
              </a:spcBef>
              <a:spcAft>
                <a:spcPts val="751"/>
              </a:spcAft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Humnst777 BT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Humnst777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Title%20Slides-New%20PPT%20Template%20JPEG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00"/>
                </a:solidFill>
                <a:latin typeface="Humnst777 Blk BT"/>
              </a:rPr>
              <a:t>Click to edit the title text format</a:t>
            </a:r>
            <a:endParaRPr b="0" lang="en-US" sz="3800" spc="-1" strike="noStrike">
              <a:solidFill>
                <a:srgbClr val="ffff00"/>
              </a:solidFill>
              <a:latin typeface="Humnst777 Blk B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2976"/>
              </a:spcBef>
              <a:spcAft>
                <a:spcPts val="876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Humnst777 BT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Humnst777 BT"/>
            </a:endParaRPr>
          </a:p>
          <a:p>
            <a:pPr lvl="1" marL="343080" indent="0" algn="ctr">
              <a:lnSpc>
                <a:spcPct val="85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umnst777 BT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Humnst777 BT"/>
            </a:endParaRPr>
          </a:p>
          <a:p>
            <a:pPr lvl="2" marL="685800" indent="114480" algn="ctr">
              <a:lnSpc>
                <a:spcPct val="85000"/>
              </a:lnSpc>
              <a:spcBef>
                <a:spcPts val="1250"/>
              </a:spcBef>
              <a:buClr>
                <a:srgbClr val="ffe101"/>
              </a:buClr>
              <a:buSzPct val="85000"/>
              <a:buFont typeface="Times New Roman"/>
              <a:buChar char="~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umnst777 BT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Humnst777 BT"/>
            </a:endParaRPr>
          </a:p>
          <a:p>
            <a:pPr lvl="3" marL="1028880" indent="114120" algn="ctr">
              <a:lnSpc>
                <a:spcPct val="85000"/>
              </a:lnSpc>
              <a:spcBef>
                <a:spcPts val="1250"/>
              </a:spcBef>
              <a:spcAft>
                <a:spcPts val="876"/>
              </a:spcAft>
              <a:buClr>
                <a:srgbClr val="ffe101"/>
              </a:buClr>
              <a:buSzPct val="85000"/>
              <a:buFont typeface="Humnst777 BT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Humnst777 BT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Humnst777 BT"/>
            </a:endParaRPr>
          </a:p>
          <a:p>
            <a:pPr lvl="4" marL="1828800" algn="ctr">
              <a:spcBef>
                <a:spcPts val="451"/>
              </a:spcBef>
              <a:buClr>
                <a:srgbClr val="ffcc6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3.png"/><Relationship Id="rId12" Type="http://schemas.openxmlformats.org/officeDocument/2006/relationships/image" Target="../media/image3.png"/><Relationship Id="rId1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ffff00"/>
                </a:solidFill>
                <a:latin typeface="Humnst777 Blk BT"/>
              </a:rPr>
              <a:t>Hands-Free Messaging</a:t>
            </a:r>
            <a:br>
              <a:rPr sz="3800"/>
            </a:br>
            <a:r>
              <a:rPr b="0" lang="en-US" sz="2800" spc="-1" strike="noStrike">
                <a:solidFill>
                  <a:srgbClr val="ffff00"/>
                </a:solidFill>
                <a:latin typeface="Humnst777 Blk BT"/>
              </a:rPr>
              <a:t>Speech/SMS Dictionary Samples</a:t>
            </a:r>
            <a:endParaRPr b="0" lang="en-US" sz="2800" spc="-1" strike="noStrike">
              <a:solidFill>
                <a:srgbClr val="ffff00"/>
              </a:solidFill>
              <a:latin typeface="Humnst777 Blk BT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ubRRectCallout"/>
          <p:cNvSpPr/>
          <p:nvPr/>
        </p:nvSpPr>
        <p:spPr>
          <a:xfrm>
            <a:off x="762120" y="1295280"/>
            <a:ext cx="2286000" cy="685800"/>
          </a:xfrm>
          <a:custGeom>
            <a:avLst/>
            <a:gdLst>
              <a:gd name="textAreaLeft" fmla="*/ 15120 w 2286000"/>
              <a:gd name="textAreaRight" fmla="*/ 2265840 w 228600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Hands-free messaging from SpeechWorks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ubRRectCallout"/>
          <p:cNvSpPr/>
          <p:nvPr/>
        </p:nvSpPr>
        <p:spPr>
          <a:xfrm>
            <a:off x="762120" y="2514600"/>
            <a:ext cx="2286000" cy="685800"/>
          </a:xfrm>
          <a:custGeom>
            <a:avLst/>
            <a:gdLst>
              <a:gd name="textAreaLeft" fmla="*/ 15120 w 2286000"/>
              <a:gd name="textAreaRight" fmla="*/ 2265840 w 228600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his is really exciting!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ubRRectCallout"/>
          <p:cNvSpPr/>
          <p:nvPr/>
        </p:nvSpPr>
        <p:spPr>
          <a:xfrm>
            <a:off x="762120" y="3657600"/>
            <a:ext cx="2286000" cy="685800"/>
          </a:xfrm>
          <a:custGeom>
            <a:avLst/>
            <a:gdLst>
              <a:gd name="textAreaLeft" fmla="*/ 15120 w 2286000"/>
              <a:gd name="textAreaRight" fmla="*/ 2265840 w 228600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XLNT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ubRRectCallout"/>
          <p:cNvSpPr/>
          <p:nvPr/>
        </p:nvSpPr>
        <p:spPr>
          <a:xfrm>
            <a:off x="838080" y="4800600"/>
            <a:ext cx="2133720" cy="685800"/>
          </a:xfrm>
          <a:custGeom>
            <a:avLst/>
            <a:gdLst>
              <a:gd name="textAreaLeft" fmla="*/ 14040 w 2133720"/>
              <a:gd name="textAreaRight" fmla="*/ 2115000 w 213372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RUOK?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ubRRectCallout"/>
          <p:cNvSpPr/>
          <p:nvPr/>
        </p:nvSpPr>
        <p:spPr>
          <a:xfrm>
            <a:off x="4648320" y="3733920"/>
            <a:ext cx="2133360" cy="685800"/>
          </a:xfrm>
          <a:custGeom>
            <a:avLst/>
            <a:gdLst>
              <a:gd name="textAreaLeft" fmla="*/ 14040 w 2133360"/>
              <a:gd name="textAreaRight" fmla="*/ 2114640 w 213336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xoxox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ubRRectCallout"/>
          <p:cNvSpPr/>
          <p:nvPr/>
        </p:nvSpPr>
        <p:spPr>
          <a:xfrm>
            <a:off x="4648320" y="1295280"/>
            <a:ext cx="2133360" cy="685800"/>
          </a:xfrm>
          <a:custGeom>
            <a:avLst/>
            <a:gdLst>
              <a:gd name="textAreaLeft" fmla="*/ 14040 w 2133360"/>
              <a:gd name="textAreaRight" fmla="*/ 2114640 w 213336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BTW, I’m feeling very slow today.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ubRRectCallout"/>
          <p:cNvSpPr/>
          <p:nvPr/>
        </p:nvSpPr>
        <p:spPr>
          <a:xfrm>
            <a:off x="4648320" y="2514600"/>
            <a:ext cx="2133360" cy="685800"/>
          </a:xfrm>
          <a:custGeom>
            <a:avLst/>
            <a:gdLst>
              <a:gd name="textAreaLeft" fmla="*/ 14040 w 2133360"/>
              <a:gd name="textAreaRight" fmla="*/ 2114640 w 213336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;-)  ;-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ubRRectCallout"/>
          <p:cNvSpPr/>
          <p:nvPr/>
        </p:nvSpPr>
        <p:spPr>
          <a:xfrm>
            <a:off x="4648320" y="4800600"/>
            <a:ext cx="2133360" cy="685800"/>
          </a:xfrm>
          <a:custGeom>
            <a:avLst/>
            <a:gdLst>
              <a:gd name="textAreaLeft" fmla="*/ 14040 w 2133360"/>
              <a:gd name="textAreaRight" fmla="*/ 2114640 w 213336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HKQ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27432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26668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2666880" y="3809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6400800" y="4876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2666880" y="4876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6"/>
          <a:stretch/>
        </p:blipFill>
        <p:spPr>
          <a:xfrm>
            <a:off x="6477120" y="1447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7"/>
          <a:stretch/>
        </p:blipFill>
        <p:spPr>
          <a:xfrm>
            <a:off x="640080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8"/>
          <a:stretch/>
        </p:blipFill>
        <p:spPr>
          <a:xfrm>
            <a:off x="6400800" y="3886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ubRRectCallout"/>
          <p:cNvSpPr/>
          <p:nvPr/>
        </p:nvSpPr>
        <p:spPr>
          <a:xfrm>
            <a:off x="762120" y="1447920"/>
            <a:ext cx="2133360" cy="685800"/>
          </a:xfrm>
          <a:custGeom>
            <a:avLst/>
            <a:gdLst>
              <a:gd name="textAreaLeft" fmla="*/ 14040 w 2133360"/>
              <a:gd name="textAreaRight" fmla="*/ 2114640 w 213336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AFAI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ubRRectCallout"/>
          <p:cNvSpPr/>
          <p:nvPr/>
        </p:nvSpPr>
        <p:spPr>
          <a:xfrm>
            <a:off x="762120" y="2438280"/>
            <a:ext cx="2133360" cy="685800"/>
          </a:xfrm>
          <a:custGeom>
            <a:avLst/>
            <a:gdLst>
              <a:gd name="textAreaLeft" fmla="*/ 14040 w 2133360"/>
              <a:gd name="textAreaRight" fmla="*/ 2114640 w 213336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BTW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ubRRectCallout"/>
          <p:cNvSpPr/>
          <p:nvPr/>
        </p:nvSpPr>
        <p:spPr>
          <a:xfrm>
            <a:off x="3733920" y="1447920"/>
            <a:ext cx="2133360" cy="685800"/>
          </a:xfrm>
          <a:custGeom>
            <a:avLst/>
            <a:gdLst>
              <a:gd name="textAreaLeft" fmla="*/ 14040 w 2133360"/>
              <a:gd name="textAreaRight" fmla="*/ 2114640 w 213336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BB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ubRRectCallout"/>
          <p:cNvSpPr/>
          <p:nvPr/>
        </p:nvSpPr>
        <p:spPr>
          <a:xfrm>
            <a:off x="6629400" y="1447920"/>
            <a:ext cx="2133720" cy="685800"/>
          </a:xfrm>
          <a:custGeom>
            <a:avLst/>
            <a:gdLst>
              <a:gd name="textAreaLeft" fmla="*/ 14040 w 2133720"/>
              <a:gd name="textAreaRight" fmla="*/ 2115000 w 213372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BRB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ubRRectCallout"/>
          <p:cNvSpPr/>
          <p:nvPr/>
        </p:nvSpPr>
        <p:spPr>
          <a:xfrm>
            <a:off x="3733920" y="2438280"/>
            <a:ext cx="2133360" cy="685800"/>
          </a:xfrm>
          <a:custGeom>
            <a:avLst/>
            <a:gdLst>
              <a:gd name="textAreaLeft" fmla="*/ 14040 w 2133360"/>
              <a:gd name="textAreaRight" fmla="*/ 2114640 w 213336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CU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ubRRectCallout"/>
          <p:cNvSpPr/>
          <p:nvPr/>
        </p:nvSpPr>
        <p:spPr>
          <a:xfrm>
            <a:off x="6629400" y="2438280"/>
            <a:ext cx="2133720" cy="685800"/>
          </a:xfrm>
          <a:custGeom>
            <a:avLst/>
            <a:gdLst>
              <a:gd name="textAreaLeft" fmla="*/ 14040 w 2133720"/>
              <a:gd name="textAreaRight" fmla="*/ 2115000 w 213372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FYI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ubRRectCallout"/>
          <p:cNvSpPr/>
          <p:nvPr/>
        </p:nvSpPr>
        <p:spPr>
          <a:xfrm>
            <a:off x="762120" y="3429000"/>
            <a:ext cx="2133360" cy="685800"/>
          </a:xfrm>
          <a:custGeom>
            <a:avLst/>
            <a:gdLst>
              <a:gd name="textAreaLeft" fmla="*/ 14040 w 2133360"/>
              <a:gd name="textAreaRight" fmla="*/ 2114640 w 213336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IMHO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ubRRectCallout"/>
          <p:cNvSpPr/>
          <p:nvPr/>
        </p:nvSpPr>
        <p:spPr>
          <a:xfrm>
            <a:off x="3733920" y="3429000"/>
            <a:ext cx="2133360" cy="685800"/>
          </a:xfrm>
          <a:custGeom>
            <a:avLst/>
            <a:gdLst>
              <a:gd name="textAreaLeft" fmla="*/ 14040 w 2133360"/>
              <a:gd name="textAreaRight" fmla="*/ 2114640 w 213336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J/K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ubRRectCallout"/>
          <p:cNvSpPr/>
          <p:nvPr/>
        </p:nvSpPr>
        <p:spPr>
          <a:xfrm>
            <a:off x="6629400" y="3429000"/>
            <a:ext cx="2133720" cy="685800"/>
          </a:xfrm>
          <a:custGeom>
            <a:avLst/>
            <a:gdLst>
              <a:gd name="textAreaLeft" fmla="*/ 14040 w 2133720"/>
              <a:gd name="textAreaRight" fmla="*/ 2115000 w 213372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LO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ubRRectCallout"/>
          <p:cNvSpPr/>
          <p:nvPr/>
        </p:nvSpPr>
        <p:spPr>
          <a:xfrm>
            <a:off x="762120" y="4419720"/>
            <a:ext cx="2133360" cy="685800"/>
          </a:xfrm>
          <a:custGeom>
            <a:avLst/>
            <a:gdLst>
              <a:gd name="textAreaLeft" fmla="*/ 14040 w 2133360"/>
              <a:gd name="textAreaRight" fmla="*/ 2114640 w 213336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N/M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ubRRectCallout"/>
          <p:cNvSpPr/>
          <p:nvPr/>
        </p:nvSpPr>
        <p:spPr>
          <a:xfrm>
            <a:off x="3733920" y="4419720"/>
            <a:ext cx="2133360" cy="685800"/>
          </a:xfrm>
          <a:custGeom>
            <a:avLst/>
            <a:gdLst>
              <a:gd name="textAreaLeft" fmla="*/ 14040 w 2133360"/>
              <a:gd name="textAreaRight" fmla="*/ 2114640 w 213336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OTO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ubRRectCallout"/>
          <p:cNvSpPr/>
          <p:nvPr/>
        </p:nvSpPr>
        <p:spPr>
          <a:xfrm>
            <a:off x="6629400" y="4419720"/>
            <a:ext cx="2133720" cy="685800"/>
          </a:xfrm>
          <a:custGeom>
            <a:avLst/>
            <a:gdLst>
              <a:gd name="textAreaLeft" fmla="*/ 14040 w 2133720"/>
              <a:gd name="textAreaRight" fmla="*/ 2115000 w 2133720"/>
              <a:gd name="textAreaTop" fmla="*/ 4320 h 685800"/>
              <a:gd name="textAreaBottom" fmla="*/ 543240 h 685800"/>
            </a:gdLst>
            <a:ahLst/>
            <a:rect l="textAreaLeft" t="textAreaTop" r="textAreaRight" b="textAreaBottom"/>
            <a:pathLst>
              <a:path w="21600" h="21600">
                <a:moveTo>
                  <a:pt x="532" y="0"/>
                </a:moveTo>
                <a:arcTo wR="532" hR="532" stAng="16200000" swAng="-5400000"/>
                <a:lnTo>
                  <a:pt x="0" y="16745"/>
                </a:lnTo>
                <a:arcTo wR="532" hR="532" stAng="10800000" swAng="-5400000"/>
                <a:lnTo>
                  <a:pt x="2623" y="17277"/>
                </a:lnTo>
                <a:lnTo>
                  <a:pt x="8607" y="21600"/>
                </a:lnTo>
                <a:lnTo>
                  <a:pt x="6515" y="17277"/>
                </a:lnTo>
                <a:lnTo>
                  <a:pt x="21016" y="17277"/>
                </a:lnTo>
                <a:arcTo wR="584" hR="532" stAng="5400000" swAng="-5400000"/>
                <a:lnTo>
                  <a:pt x="21600" y="532"/>
                </a:lnTo>
                <a:arcTo wR="584" hR="532" stAng="0" swAng="-5400000"/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5000"/>
              </a:lnSpc>
              <a:spcBef>
                <a:spcPts val="7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 Unicode MS"/>
              </a:rPr>
              <a:t>TTYL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24382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410080" y="16002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8305920" y="1600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4"/>
          <a:stretch/>
        </p:blipFill>
        <p:spPr>
          <a:xfrm>
            <a:off x="24382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5"/>
          <a:stretch/>
        </p:blipFill>
        <p:spPr>
          <a:xfrm>
            <a:off x="5410080" y="2590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6"/>
          <a:stretch/>
        </p:blipFill>
        <p:spPr>
          <a:xfrm>
            <a:off x="8305920" y="25909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7"/>
          <a:stretch/>
        </p:blipFill>
        <p:spPr>
          <a:xfrm>
            <a:off x="243828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8"/>
          <a:stretch/>
        </p:blipFill>
        <p:spPr>
          <a:xfrm>
            <a:off x="5410080" y="35812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9"/>
          <a:stretch/>
        </p:blipFill>
        <p:spPr>
          <a:xfrm>
            <a:off x="8305920" y="358128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10"/>
          <a:stretch/>
        </p:blipFill>
        <p:spPr>
          <a:xfrm>
            <a:off x="24382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11"/>
          <a:stretch/>
        </p:blipFill>
        <p:spPr>
          <a:xfrm>
            <a:off x="5410080" y="45720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12"/>
          <a:stretch/>
        </p:blipFill>
        <p:spPr>
          <a:xfrm>
            <a:off x="8305920" y="45720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2T21:35:34Z</dcterms:created>
  <dc:creator>Robert Rieger</dc:creator>
  <dc:description/>
  <dc:language>en-US</dc:language>
  <cp:lastModifiedBy>Robert Rieger</cp:lastModifiedBy>
  <dcterms:modified xsi:type="dcterms:W3CDTF">2003-07-09T13:47:12Z</dcterms:modified>
  <cp:revision>259</cp:revision>
  <dc:subject/>
  <dc:title>Embedded ASR from SpeechWorks</dc:title>
</cp:coreProperties>
</file>