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93FB9-07B1-4013-8C60-447547DDF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F377-C2D2-4D25-995B-3E234F34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5F3ED-A102-4513-B738-BB761623E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FC9B9-8D9B-450C-B380-1342C6541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111E0-89CE-4174-A3CE-B5E9C4F0D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12593-A329-409E-809E-3FBC5EC3B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6EC65-3A59-421C-8C2B-D92824EFF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47605-2B6E-4FA5-AADE-3D480E28C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8044D-473A-440B-B815-F8C00104C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BA647-0DC6-480D-880C-8398B7252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3B41-45A7-4CE0-B2EC-C3321CFBD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130AD-10E4-4579-A7E2-0416D895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72F40-D2D0-4278-9A17-E24CBC06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52B61-AADF-4F75-8D63-CE7DA722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9EDC4-F0D2-4267-BC43-3067839CD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27CBD-57E2-4F40-AE62-C35E4BCFA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92A86-1F5E-4AC5-9D40-33966DECB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1F08D-2E1A-4D6D-8C6A-39B0D26D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87EC-244A-4C9B-A507-E318A9260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94DB-EF5F-4B4F-B4CC-C8814EB14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B8B63-4E04-4452-A4F0-3B8E442B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19FF-32B2-43A3-A6E0-1AAB9EB87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C593-A1C0-4FA1-AAFF-F21BC6080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1CFC-BFE2-4567-9192-5ACC7BD2D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2280" y="1752480"/>
            <a:ext cx="4724640" cy="15264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5800" y="6629400"/>
            <a:ext cx="3505320" cy="227160"/>
          </a:xfrm>
          <a:prstGeom prst="rect">
            <a:avLst/>
          </a:prstGeom>
          <a:gradFill rotWithShape="0">
            <a:gsLst>
              <a:gs pos="0">
                <a:srgbClr val="454545"/>
              </a:gs>
              <a:gs pos="50000">
                <a:srgbClr val="969696"/>
              </a:gs>
              <a:gs pos="100000">
                <a:srgbClr val="4545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62120" y="762120"/>
            <a:ext cx="8380440" cy="76176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9d9d9d"/>
              </a:gs>
              <a:gs pos="5000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85800" y="2438280"/>
            <a:ext cx="8456760" cy="76212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Edit²</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vin Brucker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Equipment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I Support allows data manipulation to occur when a user modifies a piece of data. This feature also allows for new windows of information for add-on data which is not stored in the primary windo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talk</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Ctalk plug-in was created to support immediate load of PH data and synthesize a phoneme combination for the rest of the PGI plug-ins</a:t>
            </a:r>
            <a:endParaRPr b="1" lang="en-US" sz="2800" spc="-1" strike="noStrike">
              <a:solidFill>
                <a:srgbClr val="000000"/>
              </a:solidFill>
              <a:latin typeface="Arial"/>
            </a:endParaRPr>
          </a:p>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er</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layer is required to hear the phonemes being produced from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scilloscope is available to look at actual data as raw wave format</a:t>
            </a:r>
            <a:endParaRPr b="1" lang="en-US" sz="28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trogram</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pectrogram window is available for the PGI interface which displays a spectral analysis of the three-phoneme combination produced by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Slid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ata Plug-in which adjusts target time information when the duration of a phoneme changes based on a percentile engi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tarteam project was created as a temporary repository for PHEdit², awaiting the creation of a fully functional tools repository for related tools which need the backup and version control reliability provided by starteam, without being checked into the primary code po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78000"/>
          </a:bodyPr>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19th, 1997: PHEdit² went to Alpha Release 5</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7th, 1998: PHEdit² entered Beta Cycle 1</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24th, 1998: PHEdit² will enter Beta Cycle 2</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31st, 1998: PHEdit² will be completed, and version 2.0 review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a 1 contains all known bug fixes and appears to be stabl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Alpha Release 5 sixteen days ahead of schedu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Beta Cycle 1 three days ahead of schedu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Features in Beta 1</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on of first PDI (TarSlide) and all known bugs fixed in all plug-ins</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pecification 1.1 Supported</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Interface v1.0 Support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Presentat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comments, sugges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Goal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 the task of creating new languages and enhancing the quality of existing languages phonetic information</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system which is compatible to existing hardware and software products with minimal DECtalk™ design level chang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32004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ool allows organized display and modification of phonetic data used by the PH engine which otherwise is painful and time-consuming to modify.</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on of full PHRom files via a proprietary file format and a gender combining compil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ous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 versions required extensive changes to DECtalk and were not portable to the hardware platfor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footprint of old PH file formats were significantly larger and less expanda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R file format specification and suppor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edit ability of all fields of current PHRom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fields for future support and cleaner code</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R: Gender Independent Ro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Language-dependent PGI and PDI selecto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lug-ins supporting data entry and manipulation, as well as the new GAI format for accelerated language development</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Graphical Acquisition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D file format</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PHD file format is based on the RIFF standard, and has support for backwards compatibility, encryption, and comment support, as well as possible support for undo and data revision control</a:t>
            </a:r>
            <a:endParaRPr b="1"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FF: Resource Interchange File Form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ystem Support</a:t>
            </a:r>
            <a:endParaRPr b="1"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supports both PGI plug-ins, and PDI plug-ins. Both plug-in systems have the ability to act as a filter, although PGI filters must register themselves as filter level plug-ins to manipulate the data being passed</a:t>
            </a:r>
            <a:endParaRPr b="1"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Plug-in Graphical Interface</a:t>
            </a:r>
            <a:endParaRPr b="1"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Plug-in Data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GI interface allows graphical interpretations of the data used in the editor in conjunction with a special DECtalk module known as KLSYN.PGI. This module has core components of DECtalk to allow for PH data to be replaced by the editor, and tested in real-tim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30T15:37:05Z</dcterms:created>
  <dc:creator>Kevin Bruckert</dc:creator>
  <dc:description/>
  <dc:language>en-US</dc:language>
  <cp:lastModifiedBy>Kevin Bruckert</cp:lastModifiedBy>
  <cp:lastPrinted>1997-12-30T16:31:44Z</cp:lastPrinted>
  <dcterms:modified xsi:type="dcterms:W3CDTF">1998-01-07T19:27:21Z</dcterms:modified>
  <cp:revision>12</cp:revision>
  <dc:subject/>
  <dc:title>PHEdit²</dc:title>
</cp:coreProperties>
</file>