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53040" y="25884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70160" y="262080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36440" y="498312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8840" y="6446880"/>
            <a:ext cx="1060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L. 06/01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327560" y="6427800"/>
            <a:ext cx="45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3F45A92-1A66-4616-BE7F-A81445E5F44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1.png"/><Relationship Id="rId20" Type="http://schemas.openxmlformats.org/officeDocument/2006/relationships/image" Target="../media/image3.png"/><Relationship Id="rId21" Type="http://schemas.openxmlformats.org/officeDocument/2006/relationships/image" Target="../media/image5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4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44792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Regression Tes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tester V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ger C. Lin/Carl Leeber/Mike Garu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1/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41360" y="13644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360" y="684360"/>
            <a:ext cx="856440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nd arguments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lement for DTtest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ntered as DOS command or included in the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: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RUN command along with test text string or test text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SCII text string used as test input(arg_1) for DTtest RUN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gular ASCII text files used as Dectalk in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or more DTtest test request.  Each DTtest request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 a test number starting from test number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test reques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(test input) of test request must be “text string” or  “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(output file name) of every test request will be ignored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test request per file -- 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more DTtest command with test case file name or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command/file name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Ttest command per file -- 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41360" y="13644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(Exampl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0440" y="987480"/>
            <a:ext cx="8223120" cy="3556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2120" y="1825560"/>
            <a:ext cx="4229280" cy="3556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64120" y="1825560"/>
            <a:ext cx="2324160" cy="3556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5800" y="3578400"/>
            <a:ext cx="2705040" cy="3556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54640" y="3578400"/>
            <a:ext cx="3314880" cy="355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16000" y="2739960"/>
            <a:ext cx="2705040" cy="3556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664320" y="2739960"/>
            <a:ext cx="1943280" cy="3556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7440" y="4568760"/>
            <a:ext cx="1390680" cy="3556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73600" y="4568760"/>
            <a:ext cx="1390680" cy="3556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20920" y="4568760"/>
            <a:ext cx="1380960" cy="3556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120" y="4568760"/>
            <a:ext cx="1390680" cy="3556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73800" y="4568760"/>
            <a:ext cx="13809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2120" y="5559480"/>
            <a:ext cx="1380960" cy="3556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54640" y="5559480"/>
            <a:ext cx="2019240" cy="3556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97240" y="5559480"/>
            <a:ext cx="140976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73800" y="5559480"/>
            <a:ext cx="1409760" cy="3556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133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9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1295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Out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1360" y="684360"/>
            <a:ext cx="86425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is associated to the test group file, test case file or 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DTtest command line depended on the way to initiate the t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4 difference test status for each test c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    -- test case pa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     -- test case fai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    -- new test case. can’t find test bench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 -- test case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ata log file for each test case file. The file name will be same as the test case fil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rg_1 if there is no output file name in arg_4.  If there is 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pecified in arg_4 then use it as the log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file between test log file and test benchmark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iti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1360" y="608040"/>
            <a:ext cx="8626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-- test text st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his is a test” “run” “0001” “test123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create test123.res,  test123.log and look for test123.bmk to create test123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B -- test text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123.txt” “run” “0001” “test1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xt file test123.txt, then create test1.res,  test1.log and look for test1.bmk to 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1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 -- test case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456.tst” “run” “0011” “” “OFF” “OFF” “” “” “” 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case file test456.tst, then create test456.res,  test456.log and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bmk to create test456.dif. Only allow DTtest command with the format of  Case A and B wi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tst.  The arg_4 of each DTtest command will be ignored.  The arg_3 to arg_7 will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ever in each DTtest command line inside test456.tst.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used for the destin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p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 --  test group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789.grp” “run” “0111” “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group file test789.grp, then create test789.res. Only allow DTtest command wit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of Case C or Case D within test789.grp. It will create a set of .log .dif files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Case C.  The arg_3 to arg_7 of this command will override whatever inside test789.g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41360" y="13644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8440" y="2435400"/>
            <a:ext cx="1866960" cy="10555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8440" y="3807000"/>
            <a:ext cx="2324160" cy="12384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8440" y="5407200"/>
            <a:ext cx="1638360" cy="8730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8440" y="835200"/>
            <a:ext cx="2324160" cy="12384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40440" y="987480"/>
            <a:ext cx="1181160" cy="32544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0440" y="1749600"/>
            <a:ext cx="952560" cy="325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83040" y="1749600"/>
            <a:ext cx="1257480" cy="325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83040" y="987480"/>
            <a:ext cx="1257480" cy="3254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30600" y="2359080"/>
            <a:ext cx="1181160" cy="32544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78720" y="2359080"/>
            <a:ext cx="1181160" cy="3254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54840" y="2359080"/>
            <a:ext cx="1181160" cy="3254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4479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8195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640080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1143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2514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108240" y="731880"/>
            <a:ext cx="1001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&amp; 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08240" y="14940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08240" y="28656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30600" y="3730680"/>
            <a:ext cx="1028880" cy="32544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02400" y="4340160"/>
            <a:ext cx="952560" cy="3254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59200" y="5025960"/>
            <a:ext cx="1181160" cy="325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02400" y="3730680"/>
            <a:ext cx="1028880" cy="3254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30600" y="4340160"/>
            <a:ext cx="952560" cy="325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1840" y="5178600"/>
            <a:ext cx="1181160" cy="32544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64120" y="5330880"/>
            <a:ext cx="1181160" cy="32544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978520" y="3730680"/>
            <a:ext cx="952560" cy="32544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40440" y="3121200"/>
            <a:ext cx="1028880" cy="32544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83040" y="3121200"/>
            <a:ext cx="1257480" cy="32544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55040" y="4492800"/>
            <a:ext cx="952560" cy="32544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240" y="4492800"/>
            <a:ext cx="952560" cy="32544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978520" y="4340160"/>
            <a:ext cx="1181160" cy="32544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30800" y="4492800"/>
            <a:ext cx="1181160" cy="32544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3440" y="4645080"/>
            <a:ext cx="1181160" cy="32544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30600" y="5788080"/>
            <a:ext cx="1181160" cy="32544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240" y="5940360"/>
            <a:ext cx="1181160" cy="32544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121520" y="5025960"/>
            <a:ext cx="1181160" cy="32544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73800" y="5178600"/>
            <a:ext cx="1181160" cy="32544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426440" y="5635800"/>
            <a:ext cx="1181160" cy="32544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578720" y="5788080"/>
            <a:ext cx="1181160" cy="32544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31000" y="5940360"/>
            <a:ext cx="1181160" cy="32544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4800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34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1360" y="136440"/>
            <a:ext cx="522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41360" y="608040"/>
            <a:ext cx="80326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initiation.  Indicate the sta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of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41360" y="136440"/>
            <a:ext cx="545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mand_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41360" y="608040"/>
            <a:ext cx="71373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comm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test_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or  test text/case/grou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  test_swi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in hexi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output_file_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output_file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switch.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speak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enable switch.       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work_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ork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ri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a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ost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1360" y="136440"/>
            <a:ext cx="487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1360" y="608040"/>
            <a:ext cx="78660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 case block of this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41360" y="13644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1360" y="608040"/>
            <a:ext cx="851544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first test request block of this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case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case FAILED -2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a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41360" y="136440"/>
            <a:ext cx="505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1360" y="608040"/>
            <a:ext cx="81583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each basic element of DTtest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-- test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for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41360" y="792000"/>
            <a:ext cx="845496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over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velopment and delivery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and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RUN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GOTO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 suite directory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admini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put structure and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equence. Test request. Test text file. Test case file. Test grou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output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. Test log file. Test difference file. Test benchmark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itiation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ta structure layout and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. Test_Group. Test_Case. Test_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gram module functional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. Input module. Process module. Interface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. Utilit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1360" y="13644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41360" y="136440"/>
            <a:ext cx="68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Main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41360" y="608040"/>
            <a:ext cx="83390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receive the command line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allocate the instance of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distribute the tasks to input/process/out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ystem data log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mai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int *argc, char *argv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ocate the data structu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he start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initiation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argc,argv, 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 input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uild the complete test_sequence data structure and also execut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test command is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the different run mode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, 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se com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stopping date/tim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ending and status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41360" y="136440"/>
            <a:ext cx="68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1360" y="608040"/>
            <a:ext cx="8670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cess the command line arguments, provide the interactive input for non-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B uild the complete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Execute “HELP”, “SHOW”, “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int *argc, char *argv[], 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ad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all the commad line arguments not in the dttest.ini file with the proper error 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pply interactive input for non-optional argument if missing from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build_test_seq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uild the complete test_seque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by nesting walk through input test file group file and input case file if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get_help(&amp;test_seque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help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sho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how the detailed description of test group/case file and test switch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build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through test request/case/group building interactiv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41360" y="136440"/>
            <a:ext cx="741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Processor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1360" y="608040"/>
            <a:ext cx="8705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the different mode of RUNx_y_z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communiciate interface module to interface with the targeted Dectalk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ke sure the test command is RUN command and also determine the run mode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the RUNx_y_z synt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this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lk through each test_request of entire test_sequence data structure until finis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test request or hit the test request issuing the “STOP”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test request number and test case number against the requested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to decide whether or not to execute this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ild up the top down test condition from test switch and other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ower level test condition only can not find them from higher leve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heck the Dectalk instal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41360" y="303120"/>
            <a:ext cx="8508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xt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xt string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st text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end of this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get_clause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umulate the text record to buil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d text string or to a fix size text string if can not find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c_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clause tex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41360" y="303120"/>
            <a:ext cx="79549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check_bmk(file_nam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\-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test result in test_request/test_case/test_group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test result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41360" y="136440"/>
            <a:ext cx="73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terfac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1360" y="608040"/>
            <a:ext cx="5624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Interface with Dectalk for data exch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face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the size of data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send_buffer( ) to send the data string to Dectalk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flush( ) to flush the text buf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single character to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_char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buffer(char *data, short size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character string to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b( ) of dtcommon.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41360" y="227160"/>
            <a:ext cx="629460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itialize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reach the loop count 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get_char( ) to get one character from return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end this character into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rement the loop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single character returned from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gedc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installation of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install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flush(unsigned char *datam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ush the text buffer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flus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41360" y="136440"/>
            <a:ext cx="709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Out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360" y="684360"/>
            <a:ext cx="83520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“REVIEW”, “UPDATE”, “REMOVE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the test command and test input from test_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vie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pen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viewing the test result of ea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provide a option to view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updat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name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becom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bmk\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mov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move all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for this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41360" y="136440"/>
            <a:ext cx="6973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Utility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41360" y="684360"/>
            <a:ext cx="71247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vide the shared utility function for all the other m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ity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scri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file_open(FILE **fp,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system_log(char *date, char *time, char *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error_log(char *call_routine, char *error_mess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ase_change(char *string, 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insert_list_tail(short list_type, void **list_head, void **item_to_a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alloc(short data_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free(void *data_bl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list_free(short  list_type,void *list_h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har_strip(char *string, char char_to_str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substitute(char *string, char *string_1, char *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catch(char *string, char deli_1, char deli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strncmp_tail(char *string_1, char *string_2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string_shift(char *string, short mode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tt_util_strstr_special(char *string_1, char 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help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built_test_seq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user_message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argument(char *command_line, Command_Data *comman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41360" y="136440"/>
            <a:ext cx="175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5040" y="1249200"/>
            <a:ext cx="66596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Screen reader and third party product compatibi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Speech qua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Performance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Stress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DTtest support and next phase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1360" y="13644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68640" y="3121200"/>
            <a:ext cx="952560" cy="568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21120" y="1139760"/>
            <a:ext cx="1306440" cy="5684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8440" y="4797360"/>
            <a:ext cx="969840" cy="9936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7400" y="4797360"/>
            <a:ext cx="1109520" cy="9936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59000" y="4797360"/>
            <a:ext cx="936720" cy="99360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2130480"/>
            <a:ext cx="1257480" cy="568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21120" y="3121200"/>
            <a:ext cx="1257480" cy="568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26240" y="1673280"/>
            <a:ext cx="1494000" cy="99360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11840" y="4797360"/>
            <a:ext cx="1089000" cy="9936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02400" y="4797360"/>
            <a:ext cx="936720" cy="9936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3440" y="4797360"/>
            <a:ext cx="936720" cy="993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78720" y="3197160"/>
            <a:ext cx="9507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3526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97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7242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2428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1972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5530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924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812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14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718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580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1722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35120" y="1292400"/>
            <a:ext cx="1795320" cy="1419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ystem log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, dttest.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, dttest.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, *.pos, *.b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21120" y="4035600"/>
            <a:ext cx="1257480" cy="568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666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809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2120" y="3197160"/>
            <a:ext cx="99072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02200" y="3121200"/>
            <a:ext cx="1104840" cy="568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41360" y="136440"/>
            <a:ext cx="430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velopment and Deliver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040" y="684360"/>
            <a:ext cx="5934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1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all 16/32/64 bits under MSDOS, WIN95,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ASCII string dataloging and bench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CMD, LTS and PH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API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30/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Digital Unix tes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window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performance and stress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VTM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30/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3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Full function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the intelligent conditional bran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the automatic bug tracing and bug al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and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360" y="533520"/>
            <a:ext cx="854712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“arg_2” “arg_3” “arg_4” “arg_5” “arg_6” “arg_7” “arg_8”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test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not ended with “.bat”, “.txt”, “.tst” and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 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ended with “.ba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-- string ended with “.tx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 string ended with “.tst”, basic PASS/FAIL test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string ended with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r 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     stop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x_y_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test sequence. The defaulted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ath within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test resul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update the bench 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test flow    .   h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remove the test out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the test case file or test group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o the next test case after GOTOx_y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/debug hexi code switch 0xYYYY.  Should be sent through [:debug YYYY]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Only needed for “arg_1 = test text string or 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input is test case file, this output file name will override test cas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FF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speak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faulted is current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1-16 characters test label.  Must be lower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41360" y="136440"/>
            <a:ext cx="31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U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1360" y="684360"/>
            <a:ext cx="8062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RUNx_y_z  “arg_3”  .........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defaulted run mode.  Test the entir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irst 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2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3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befor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4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excep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5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GOTO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1360" y="684360"/>
            <a:ext cx="54039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GOTOx_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_y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ditio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p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f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7680" y="2727360"/>
            <a:ext cx="374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ETUR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7680" y="3274920"/>
            <a:ext cx="59468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eturn to the test case after the la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1360" y="136440"/>
            <a:ext cx="413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 Suite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360" y="684360"/>
            <a:ext cx="8354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ui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to install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x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art the DTtest test sequence. Can be any 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ocal drive or the network share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area. Will have 4 system files, 3 types of shareable special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lo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fatal error lo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m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initialization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DOS batch file used in *.pri or *.pos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test case f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used for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 mark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ASS/FAIL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ging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erenc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t data between .log file and .bm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41360" y="136440"/>
            <a:ext cx="4416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1360" y="684360"/>
            <a:ext cx="81932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files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\dtsys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log file. Record the date/time and result of each DTtest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st switch hexi code to test function mapping used for “SHOW”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error log file. Record every system fatal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initialization file. Will preset DTtest arguments to the initial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mat should  be as : arg_# = “....”    # is 1 to 9.  One argumen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running the *.bat file used to p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to running the *.bat file used to 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used in *.pri or *.pos file to execute other DOS command or run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  Can be used to create the filter for test setup or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nger C. Lin</dc:creator>
  <dc:description/>
  <dc:language>en-US</dc:language>
  <cp:lastModifiedBy>Ginger C. Lin</cp:lastModifiedBy>
  <cp:revision>0</cp:revision>
  <dc:subject/>
  <dc:title>Dectalk tester</dc:title>
</cp:coreProperties>
</file>